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77C-31A3-4DAF-870C-02422232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B3C-2B36-4783-9178-5022AB85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4A5-0B15-45A7-B38B-D47D42AA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841-8F24-4277-9BD7-67C1BA10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669E-C34F-48C5-8FC6-D601542A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6554-7A48-44BB-B110-863E9B5F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1BCE-D328-416F-87D2-429B9853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A4F2-4836-4477-9962-1A46300B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1861-D6D2-4260-B2C7-46FD0B33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6F1F-06C6-4FEB-9A47-A04A382B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CA24-60ED-4670-B4B5-F2BA1A9C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066-23EA-4822-B77E-99A2F9EE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13A8-D3F0-4F66-A9CD-0A9E181A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CFA4-092D-48BB-A1E0-C1CB5FF8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B7AD-C926-44BB-A7E0-3B2F9957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5FDD-659E-454A-BA11-AF423DE2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8B39-2C08-4B74-B8CE-6583BE73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4F1-2EA7-4C24-A072-BFC4023B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93D-F096-44E2-9B59-E27629F8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4EA-409C-4726-ADB2-471835D7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2E5-57FA-45BB-8569-8AA835D7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22F8-EEC2-4937-BE78-FE15566D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1ED-C806-4B84-8486-E39ACACE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A95-97EF-436D-B54A-BB7EBC70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780B-3068-41AB-97CA-61B6883ED07F}" type="slidenum">
              <a:rPr b="0" lang="en-US" sz="1400" spc="-1" strike="noStrike">
                <a:solidFill>
                  <a:srgbClr val="eae8e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4536-D4D4-44A2-BED1-FD82B2577664}" type="slidenum">
              <a:rPr b="0" lang="en-US" sz="1400" spc="-1" strike="noStrike">
                <a:solidFill>
                  <a:srgbClr val="eae8e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Unit 13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ale Drawings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00080" y="58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778" y="16346"/>
                </a:moveTo>
                <a:lnTo>
                  <a:pt x="2778" y="16346"/>
                </a:ln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:  Students will use ratio/proportion to create scale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rawings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Scale Drawings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 scale drawing is a drawing of an object. It is always the same shape or the object, but a different size than the original. A scale drawing can represent an object smaller than in reality, or larger.</a:t>
            </a:r>
            <a:endParaRPr b="0" lang="en-US" sz="28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x.1)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we are making a scale drawing of the classroom, you might use a scale of 20in = 1cm.  If one wall is 460in, how many cm will it be in the scale drawing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x. 2)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So that everyone can see the information on the power point, the projector enlarges the image using a scale of 3 in on the computer = 1 ft. on the screen.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2920" y="4394160"/>
            <a:ext cx="4411440" cy="766800"/>
          </a:xfrm>
          <a:custGeom>
            <a:avLst/>
            <a:gdLst/>
            <a:ahLst/>
            <a:rect l="l" t="t" r="r" b="b"/>
            <a:pathLst>
              <a:path w="12254" h="2134">
                <a:moveTo>
                  <a:pt x="6896" y="13072"/>
                </a:moveTo>
                <a:cubicBezTo>
                  <a:pt x="6914" y="13008"/>
                  <a:pt x="6945" y="12989"/>
                  <a:pt x="7020" y="12973"/>
                </a:cubicBezTo>
                <a:cubicBezTo>
                  <a:pt x="7094" y="12957"/>
                  <a:pt x="7185" y="12988"/>
                  <a:pt x="7243" y="12998"/>
                </a:cubicBezTo>
                <a:cubicBezTo>
                  <a:pt x="7331" y="13014"/>
                  <a:pt x="7430" y="13008"/>
                  <a:pt x="7516" y="13022"/>
                </a:cubicBezTo>
                <a:cubicBezTo>
                  <a:pt x="7573" y="13031"/>
                  <a:pt x="7635" y="13038"/>
                  <a:pt x="7689" y="13047"/>
                </a:cubicBezTo>
                <a:cubicBezTo>
                  <a:pt x="7737" y="13055"/>
                  <a:pt x="7816" y="13054"/>
                  <a:pt x="7863" y="13072"/>
                </a:cubicBezTo>
                <a:cubicBezTo>
                  <a:pt x="7921" y="13094"/>
                  <a:pt x="7967" y="13097"/>
                  <a:pt x="8037" y="13097"/>
                </a:cubicBezTo>
                <a:cubicBezTo>
                  <a:pt x="8116" y="13097"/>
                  <a:pt x="8196" y="13081"/>
                  <a:pt x="8260" y="13072"/>
                </a:cubicBezTo>
                <a:cubicBezTo>
                  <a:pt x="8350" y="13059"/>
                  <a:pt x="8447" y="13060"/>
                  <a:pt x="8533" y="13047"/>
                </a:cubicBezTo>
                <a:cubicBezTo>
                  <a:pt x="8574" y="13047"/>
                  <a:pt x="8582" y="13047"/>
                  <a:pt x="8607" y="13047"/>
                </a:cubicBezTo>
                <a:cubicBezTo>
                  <a:pt x="8506" y="13078"/>
                  <a:pt x="8394" y="13093"/>
                  <a:pt x="8285" y="13097"/>
                </a:cubicBezTo>
                <a:cubicBezTo>
                  <a:pt x="8182" y="13101"/>
                  <a:pt x="8086" y="13113"/>
                  <a:pt x="7987" y="13122"/>
                </a:cubicBezTo>
                <a:cubicBezTo>
                  <a:pt x="7881" y="13132"/>
                  <a:pt x="7769" y="13137"/>
                  <a:pt x="7665" y="13146"/>
                </a:cubicBezTo>
                <a:cubicBezTo>
                  <a:pt x="7546" y="13156"/>
                  <a:pt x="7441" y="13171"/>
                  <a:pt x="7317" y="13171"/>
                </a:cubicBezTo>
                <a:cubicBezTo>
                  <a:pt x="7199" y="13171"/>
                  <a:pt x="7108" y="13186"/>
                  <a:pt x="6995" y="13221"/>
                </a:cubicBezTo>
              </a:path>
              <a:path w="12254" h="2134">
                <a:moveTo>
                  <a:pt x="9302" y="12601"/>
                </a:moveTo>
                <a:cubicBezTo>
                  <a:pt x="9344" y="12506"/>
                  <a:pt x="9365" y="12494"/>
                  <a:pt x="9426" y="12402"/>
                </a:cubicBezTo>
                <a:cubicBezTo>
                  <a:pt x="9448" y="12359"/>
                  <a:pt x="9452" y="12348"/>
                  <a:pt x="9475" y="12328"/>
                </a:cubicBezTo>
                <a:cubicBezTo>
                  <a:pt x="9475" y="12559"/>
                  <a:pt x="9475" y="12791"/>
                  <a:pt x="9475" y="13022"/>
                </a:cubicBezTo>
                <a:cubicBezTo>
                  <a:pt x="9545" y="13018"/>
                  <a:pt x="9616" y="13008"/>
                  <a:pt x="9699" y="12998"/>
                </a:cubicBezTo>
                <a:cubicBezTo>
                  <a:pt x="9770" y="12990"/>
                  <a:pt x="9878" y="12970"/>
                  <a:pt x="9947" y="12973"/>
                </a:cubicBezTo>
                <a:cubicBezTo>
                  <a:pt x="10013" y="12976"/>
                  <a:pt x="10064" y="12973"/>
                  <a:pt x="10120" y="12973"/>
                </a:cubicBezTo>
                <a:cubicBezTo>
                  <a:pt x="10234" y="12973"/>
                  <a:pt x="10337" y="12981"/>
                  <a:pt x="10443" y="12998"/>
                </a:cubicBezTo>
                <a:cubicBezTo>
                  <a:pt x="10558" y="13016"/>
                  <a:pt x="10673" y="13044"/>
                  <a:pt x="10790" y="13047"/>
                </a:cubicBezTo>
                <a:cubicBezTo>
                  <a:pt x="10949" y="13052"/>
                  <a:pt x="11107" y="13061"/>
                  <a:pt x="11261" y="13072"/>
                </a:cubicBezTo>
                <a:cubicBezTo>
                  <a:pt x="11377" y="13080"/>
                  <a:pt x="11495" y="13089"/>
                  <a:pt x="11609" y="13097"/>
                </a:cubicBezTo>
                <a:cubicBezTo>
                  <a:pt x="11698" y="13104"/>
                  <a:pt x="11748" y="13087"/>
                  <a:pt x="11832" y="13072"/>
                </a:cubicBezTo>
                <a:cubicBezTo>
                  <a:pt x="11913" y="13057"/>
                  <a:pt x="11997" y="13049"/>
                  <a:pt x="12080" y="13047"/>
                </a:cubicBezTo>
                <a:cubicBezTo>
                  <a:pt x="12280" y="13042"/>
                  <a:pt x="12483" y="13039"/>
                  <a:pt x="12675" y="13022"/>
                </a:cubicBezTo>
                <a:cubicBezTo>
                  <a:pt x="12786" y="13012"/>
                  <a:pt x="12896" y="13041"/>
                  <a:pt x="12998" y="13047"/>
                </a:cubicBezTo>
                <a:cubicBezTo>
                  <a:pt x="13094" y="13053"/>
                  <a:pt x="13184" y="13028"/>
                  <a:pt x="13271" y="13022"/>
                </a:cubicBezTo>
                <a:cubicBezTo>
                  <a:pt x="13320" y="13022"/>
                  <a:pt x="13337" y="13022"/>
                  <a:pt x="13370" y="13022"/>
                </a:cubicBezTo>
                <a:cubicBezTo>
                  <a:pt x="13323" y="12882"/>
                  <a:pt x="13280" y="12742"/>
                  <a:pt x="13246" y="12601"/>
                </a:cubicBezTo>
                <a:cubicBezTo>
                  <a:pt x="13226" y="12516"/>
                  <a:pt x="13194" y="12436"/>
                  <a:pt x="13171" y="12353"/>
                </a:cubicBezTo>
                <a:cubicBezTo>
                  <a:pt x="13140" y="12239"/>
                  <a:pt x="13141" y="12266"/>
                  <a:pt x="13022" y="12229"/>
                </a:cubicBezTo>
                <a:cubicBezTo>
                  <a:pt x="12967" y="12212"/>
                  <a:pt x="12908" y="12210"/>
                  <a:pt x="12849" y="12204"/>
                </a:cubicBezTo>
                <a:cubicBezTo>
                  <a:pt x="12730" y="12192"/>
                  <a:pt x="12612" y="12219"/>
                  <a:pt x="12502" y="12229"/>
                </a:cubicBezTo>
                <a:cubicBezTo>
                  <a:pt x="12390" y="12239"/>
                  <a:pt x="12231" y="12259"/>
                  <a:pt x="12129" y="12254"/>
                </a:cubicBezTo>
                <a:cubicBezTo>
                  <a:pt x="12037" y="12250"/>
                  <a:pt x="11904" y="12243"/>
                  <a:pt x="11807" y="12229"/>
                </a:cubicBezTo>
                <a:cubicBezTo>
                  <a:pt x="11700" y="12214"/>
                  <a:pt x="11619" y="12226"/>
                  <a:pt x="11509" y="12229"/>
                </a:cubicBezTo>
                <a:cubicBezTo>
                  <a:pt x="11413" y="12231"/>
                  <a:pt x="11331" y="12245"/>
                  <a:pt x="11237" y="12254"/>
                </a:cubicBezTo>
                <a:cubicBezTo>
                  <a:pt x="11133" y="12264"/>
                  <a:pt x="11021" y="12231"/>
                  <a:pt x="10914" y="12229"/>
                </a:cubicBezTo>
                <a:cubicBezTo>
                  <a:pt x="10794" y="12227"/>
                  <a:pt x="10682" y="12213"/>
                  <a:pt x="10567" y="12204"/>
                </a:cubicBezTo>
                <a:cubicBezTo>
                  <a:pt x="10462" y="12195"/>
                  <a:pt x="10371" y="12220"/>
                  <a:pt x="10269" y="12229"/>
                </a:cubicBezTo>
                <a:cubicBezTo>
                  <a:pt x="10101" y="12244"/>
                  <a:pt x="9935" y="12217"/>
                  <a:pt x="9773" y="12204"/>
                </a:cubicBezTo>
                <a:cubicBezTo>
                  <a:pt x="9683" y="12197"/>
                  <a:pt x="9608" y="12212"/>
                  <a:pt x="9525" y="12229"/>
                </a:cubicBezTo>
                <a:cubicBezTo>
                  <a:pt x="9447" y="12245"/>
                  <a:pt x="9384" y="12233"/>
                  <a:pt x="9376" y="12328"/>
                </a:cubicBezTo>
                <a:cubicBezTo>
                  <a:pt x="9396" y="12388"/>
                  <a:pt x="9395" y="12403"/>
                  <a:pt x="9426" y="12427"/>
                </a:cubicBezTo>
              </a:path>
              <a:path w="12254" h="2134">
                <a:moveTo>
                  <a:pt x="14387" y="13072"/>
                </a:moveTo>
                <a:cubicBezTo>
                  <a:pt x="14369" y="13163"/>
                  <a:pt x="14440" y="13061"/>
                  <a:pt x="14536" y="13072"/>
                </a:cubicBezTo>
                <a:cubicBezTo>
                  <a:pt x="14522" y="13262"/>
                  <a:pt x="14425" y="13329"/>
                  <a:pt x="14263" y="13444"/>
                </a:cubicBezTo>
                <a:cubicBezTo>
                  <a:pt x="14397" y="13413"/>
                  <a:pt x="14461" y="13441"/>
                  <a:pt x="14585" y="13469"/>
                </a:cubicBezTo>
                <a:cubicBezTo>
                  <a:pt x="14602" y="13469"/>
                  <a:pt x="14618" y="13469"/>
                  <a:pt x="14635" y="13469"/>
                </a:cubicBezTo>
              </a:path>
              <a:path w="12254" h="2134">
                <a:moveTo>
                  <a:pt x="14883" y="13221"/>
                </a:moveTo>
                <a:cubicBezTo>
                  <a:pt x="14788" y="13137"/>
                  <a:pt x="14756" y="13111"/>
                  <a:pt x="14660" y="13221"/>
                </a:cubicBezTo>
                <a:cubicBezTo>
                  <a:pt x="14523" y="13377"/>
                  <a:pt x="14773" y="13500"/>
                  <a:pt x="14908" y="13419"/>
                </a:cubicBezTo>
                <a:cubicBezTo>
                  <a:pt x="15098" y="13304"/>
                  <a:pt x="14950" y="13155"/>
                  <a:pt x="14833" y="13097"/>
                </a:cubicBezTo>
              </a:path>
              <a:path w="12254" h="2134">
                <a:moveTo>
                  <a:pt x="15180" y="13320"/>
                </a:moveTo>
                <a:cubicBezTo>
                  <a:pt x="15205" y="13419"/>
                  <a:pt x="15213" y="13453"/>
                  <a:pt x="15230" y="13519"/>
                </a:cubicBezTo>
              </a:path>
              <a:path w="12254" h="2134">
                <a:moveTo>
                  <a:pt x="15255" y="13146"/>
                </a:moveTo>
                <a:lnTo>
                  <a:pt x="15255" y="13146"/>
                </a:lnTo>
              </a:path>
              <a:path w="12254" h="2134">
                <a:moveTo>
                  <a:pt x="15453" y="13444"/>
                </a:moveTo>
                <a:cubicBezTo>
                  <a:pt x="15484" y="13376"/>
                  <a:pt x="15514" y="13307"/>
                  <a:pt x="15553" y="13246"/>
                </a:cubicBezTo>
                <a:cubicBezTo>
                  <a:pt x="15655" y="13297"/>
                  <a:pt x="15675" y="13317"/>
                  <a:pt x="15726" y="13419"/>
                </a:cubicBezTo>
              </a:path>
              <a:path w="12254" h="2134">
                <a:moveTo>
                  <a:pt x="14213" y="13618"/>
                </a:moveTo>
                <a:cubicBezTo>
                  <a:pt x="14339" y="13668"/>
                  <a:pt x="14474" y="13700"/>
                  <a:pt x="14610" y="13717"/>
                </a:cubicBezTo>
                <a:cubicBezTo>
                  <a:pt x="14972" y="13763"/>
                  <a:pt x="15342" y="13734"/>
                  <a:pt x="15701" y="13791"/>
                </a:cubicBezTo>
                <a:cubicBezTo>
                  <a:pt x="15726" y="13799"/>
                  <a:pt x="15751" y="13808"/>
                  <a:pt x="15776" y="13816"/>
                </a:cubicBezTo>
              </a:path>
              <a:path w="12254" h="2134">
                <a:moveTo>
                  <a:pt x="14585" y="13866"/>
                </a:moveTo>
                <a:cubicBezTo>
                  <a:pt x="14566" y="13958"/>
                  <a:pt x="14545" y="14047"/>
                  <a:pt x="14536" y="14139"/>
                </a:cubicBezTo>
              </a:path>
              <a:path w="12254" h="2134">
                <a:moveTo>
                  <a:pt x="15230" y="14039"/>
                </a:moveTo>
                <a:cubicBezTo>
                  <a:pt x="15167" y="13998"/>
                  <a:pt x="15105" y="13933"/>
                  <a:pt x="15056" y="14015"/>
                </a:cubicBezTo>
                <a:cubicBezTo>
                  <a:pt x="14935" y="14218"/>
                  <a:pt x="15243" y="14152"/>
                  <a:pt x="15329" y="14139"/>
                </a:cubicBezTo>
              </a:path>
              <a:path w="12254" h="2134">
                <a:moveTo>
                  <a:pt x="15478" y="13990"/>
                </a:moveTo>
                <a:cubicBezTo>
                  <a:pt x="15486" y="14023"/>
                  <a:pt x="15495" y="14056"/>
                  <a:pt x="15503" y="14089"/>
                </a:cubicBezTo>
                <a:cubicBezTo>
                  <a:pt x="15543" y="14025"/>
                  <a:pt x="15632" y="13892"/>
                  <a:pt x="15701" y="14015"/>
                </a:cubicBezTo>
                <a:cubicBezTo>
                  <a:pt x="15709" y="14048"/>
                  <a:pt x="15718" y="14081"/>
                  <a:pt x="15726" y="14114"/>
                </a:cubicBezTo>
                <a:cubicBezTo>
                  <a:pt x="15764" y="14023"/>
                  <a:pt x="15797" y="13915"/>
                  <a:pt x="15925" y="13965"/>
                </a:cubicBezTo>
                <a:cubicBezTo>
                  <a:pt x="15999" y="13994"/>
                  <a:pt x="16038" y="14069"/>
                  <a:pt x="16098" y="14114"/>
                </a:cubicBezTo>
              </a:path>
              <a:path w="12254" h="2134">
                <a:moveTo>
                  <a:pt x="16371" y="13692"/>
                </a:moveTo>
                <a:cubicBezTo>
                  <a:pt x="16487" y="13654"/>
                  <a:pt x="16600" y="13625"/>
                  <a:pt x="16718" y="13593"/>
                </a:cubicBezTo>
              </a:path>
              <a:path w="12254" h="2134">
                <a:moveTo>
                  <a:pt x="16421" y="13791"/>
                </a:moveTo>
                <a:cubicBezTo>
                  <a:pt x="16556" y="13784"/>
                  <a:pt x="16685" y="13755"/>
                  <a:pt x="16818" y="13742"/>
                </a:cubicBezTo>
              </a:path>
              <a:path w="12254" h="2134">
                <a:moveTo>
                  <a:pt x="17438" y="13717"/>
                </a:moveTo>
                <a:cubicBezTo>
                  <a:pt x="17379" y="13717"/>
                  <a:pt x="17503" y="13733"/>
                  <a:pt x="17562" y="13742"/>
                </a:cubicBezTo>
                <a:cubicBezTo>
                  <a:pt x="17656" y="13756"/>
                  <a:pt x="17743" y="13721"/>
                  <a:pt x="17835" y="13717"/>
                </a:cubicBezTo>
                <a:cubicBezTo>
                  <a:pt x="18118" y="13704"/>
                  <a:pt x="18432" y="13760"/>
                  <a:pt x="18703" y="13692"/>
                </a:cubicBezTo>
                <a:cubicBezTo>
                  <a:pt x="18736" y="13692"/>
                  <a:pt x="18752" y="13692"/>
                  <a:pt x="18777" y="13692"/>
                </a:cubicBezTo>
              </a:path>
              <a:path w="12254" h="2134">
                <a:moveTo>
                  <a:pt x="17214" y="13171"/>
                </a:moveTo>
                <a:cubicBezTo>
                  <a:pt x="17192" y="13260"/>
                  <a:pt x="17160" y="13366"/>
                  <a:pt x="17115" y="13444"/>
                </a:cubicBezTo>
                <a:cubicBezTo>
                  <a:pt x="17228" y="13444"/>
                  <a:pt x="17328" y="13437"/>
                  <a:pt x="17438" y="13419"/>
                </a:cubicBezTo>
              </a:path>
              <a:path w="12254" h="2134">
                <a:moveTo>
                  <a:pt x="17438" y="13122"/>
                </a:moveTo>
                <a:cubicBezTo>
                  <a:pt x="17416" y="13289"/>
                  <a:pt x="17396" y="13451"/>
                  <a:pt x="17388" y="13618"/>
                </a:cubicBezTo>
              </a:path>
              <a:path w="12254" h="2134">
                <a:moveTo>
                  <a:pt x="17711" y="13122"/>
                </a:moveTo>
                <a:cubicBezTo>
                  <a:pt x="17661" y="13246"/>
                  <a:pt x="17626" y="13385"/>
                  <a:pt x="17611" y="13519"/>
                </a:cubicBezTo>
                <a:cubicBezTo>
                  <a:pt x="17611" y="13544"/>
                  <a:pt x="17611" y="13568"/>
                  <a:pt x="17611" y="13593"/>
                </a:cubicBezTo>
                <a:cubicBezTo>
                  <a:pt x="17768" y="13627"/>
                  <a:pt x="17868" y="13644"/>
                  <a:pt x="17934" y="13469"/>
                </a:cubicBezTo>
                <a:cubicBezTo>
                  <a:pt x="17934" y="13452"/>
                  <a:pt x="17934" y="13436"/>
                  <a:pt x="17934" y="13419"/>
                </a:cubicBezTo>
                <a:cubicBezTo>
                  <a:pt x="17785" y="13403"/>
                  <a:pt x="17787" y="13390"/>
                  <a:pt x="17735" y="13543"/>
                </a:cubicBezTo>
                <a:cubicBezTo>
                  <a:pt x="17727" y="13568"/>
                  <a:pt x="17719" y="13593"/>
                  <a:pt x="17711" y="13618"/>
                </a:cubicBezTo>
              </a:path>
              <a:path w="12254" h="2134">
                <a:moveTo>
                  <a:pt x="18207" y="13097"/>
                </a:moveTo>
                <a:cubicBezTo>
                  <a:pt x="18076" y="13129"/>
                  <a:pt x="18033" y="13286"/>
                  <a:pt x="18008" y="13419"/>
                </a:cubicBezTo>
                <a:cubicBezTo>
                  <a:pt x="17985" y="13541"/>
                  <a:pt x="18072" y="13647"/>
                  <a:pt x="18207" y="13593"/>
                </a:cubicBezTo>
                <a:cubicBezTo>
                  <a:pt x="18379" y="13525"/>
                  <a:pt x="18379" y="13366"/>
                  <a:pt x="18281" y="13246"/>
                </a:cubicBezTo>
                <a:cubicBezTo>
                  <a:pt x="18264" y="13229"/>
                  <a:pt x="18248" y="13213"/>
                  <a:pt x="18231" y="13196"/>
                </a:cubicBezTo>
              </a:path>
              <a:path w="12254" h="2134">
                <a:moveTo>
                  <a:pt x="18604" y="13419"/>
                </a:moveTo>
                <a:cubicBezTo>
                  <a:pt x="18611" y="13473"/>
                  <a:pt x="18620" y="13489"/>
                  <a:pt x="18628" y="13543"/>
                </a:cubicBezTo>
              </a:path>
              <a:path w="12254" h="2134">
                <a:moveTo>
                  <a:pt x="18628" y="13171"/>
                </a:moveTo>
                <a:lnTo>
                  <a:pt x="18628" y="13171"/>
                </a:lnTo>
              </a:path>
              <a:path w="12254" h="2134">
                <a:moveTo>
                  <a:pt x="18852" y="13444"/>
                </a:moveTo>
                <a:cubicBezTo>
                  <a:pt x="18859" y="13363"/>
                  <a:pt x="18899" y="13229"/>
                  <a:pt x="19025" y="13295"/>
                </a:cubicBezTo>
                <a:cubicBezTo>
                  <a:pt x="19114" y="13341"/>
                  <a:pt x="19133" y="13435"/>
                  <a:pt x="19149" y="13519"/>
                </a:cubicBezTo>
              </a:path>
              <a:path w="12254" h="2134">
                <a:moveTo>
                  <a:pt x="17859" y="13965"/>
                </a:moveTo>
                <a:cubicBezTo>
                  <a:pt x="17896" y="13965"/>
                  <a:pt x="17884" y="14170"/>
                  <a:pt x="17884" y="14263"/>
                </a:cubicBezTo>
                <a:cubicBezTo>
                  <a:pt x="18011" y="14255"/>
                  <a:pt x="18133" y="14242"/>
                  <a:pt x="18256" y="14213"/>
                </a:cubicBezTo>
              </a:path>
              <a:path w="12254" h="2134">
                <a:moveTo>
                  <a:pt x="14610" y="13841"/>
                </a:moveTo>
                <a:cubicBezTo>
                  <a:pt x="14610" y="13684"/>
                  <a:pt x="14602" y="13862"/>
                  <a:pt x="14610" y="13915"/>
                </a:cubicBezTo>
                <a:cubicBezTo>
                  <a:pt x="14621" y="13983"/>
                  <a:pt x="14648" y="14057"/>
                  <a:pt x="14660" y="14114"/>
                </a:cubicBezTo>
                <a:cubicBezTo>
                  <a:pt x="14660" y="14130"/>
                  <a:pt x="14660" y="14147"/>
                  <a:pt x="14660" y="14163"/>
                </a:cubicBezTo>
                <a:cubicBezTo>
                  <a:pt x="14625" y="14094"/>
                  <a:pt x="14653" y="13864"/>
                  <a:pt x="14635" y="13940"/>
                </a:cubicBezTo>
                <a:cubicBezTo>
                  <a:pt x="14604" y="14070"/>
                  <a:pt x="14593" y="14205"/>
                  <a:pt x="14585" y="14337"/>
                </a:cubicBezTo>
              </a:path>
              <a:path w="12254" h="2134">
                <a:moveTo>
                  <a:pt x="16694" y="13643"/>
                </a:moveTo>
                <a:cubicBezTo>
                  <a:pt x="16618" y="13679"/>
                  <a:pt x="16582" y="13707"/>
                  <a:pt x="16545" y="13767"/>
                </a:cubicBezTo>
                <a:cubicBezTo>
                  <a:pt x="16488" y="13737"/>
                  <a:pt x="16675" y="13616"/>
                  <a:pt x="16793" y="13543"/>
                </a:cubicBezTo>
                <a:cubicBezTo>
                  <a:pt x="16911" y="13469"/>
                  <a:pt x="16517" y="13739"/>
                  <a:pt x="16470" y="13767"/>
                </a:cubicBezTo>
                <a:cubicBezTo>
                  <a:pt x="16356" y="13834"/>
                  <a:pt x="16841" y="13504"/>
                  <a:pt x="16743" y="13593"/>
                </a:cubicBezTo>
                <a:cubicBezTo>
                  <a:pt x="16711" y="13622"/>
                  <a:pt x="16165" y="14004"/>
                  <a:pt x="16470" y="13791"/>
                </a:cubicBezTo>
                <a:cubicBezTo>
                  <a:pt x="16584" y="13711"/>
                  <a:pt x="16671" y="13634"/>
                  <a:pt x="16793" y="13568"/>
                </a:cubicBezTo>
                <a:cubicBezTo>
                  <a:pt x="16722" y="13622"/>
                  <a:pt x="16159" y="14007"/>
                  <a:pt x="16520" y="13742"/>
                </a:cubicBezTo>
                <a:cubicBezTo>
                  <a:pt x="16821" y="13522"/>
                  <a:pt x="16593" y="13705"/>
                  <a:pt x="16446" y="13816"/>
                </a:cubicBezTo>
                <a:cubicBezTo>
                  <a:pt x="16421" y="13833"/>
                  <a:pt x="16396" y="13849"/>
                  <a:pt x="16371" y="13866"/>
                </a:cubicBezTo>
                <a:cubicBezTo>
                  <a:pt x="16406" y="13841"/>
                  <a:pt x="16853" y="13522"/>
                  <a:pt x="16619" y="13692"/>
                </a:cubicBezTo>
                <a:cubicBezTo>
                  <a:pt x="16512" y="13770"/>
                  <a:pt x="16231" y="13965"/>
                  <a:pt x="16520" y="13767"/>
                </a:cubicBezTo>
                <a:cubicBezTo>
                  <a:pt x="16601" y="13712"/>
                  <a:pt x="16717" y="13571"/>
                  <a:pt x="16694" y="13667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69120" y="4527720"/>
            <a:ext cx="990720" cy="955440"/>
          </a:xfrm>
          <a:custGeom>
            <a:avLst/>
            <a:gdLst/>
            <a:ahLst/>
            <a:rect l="l" t="t" r="r" b="b"/>
            <a:pathLst>
              <a:path w="2754" h="2655">
                <a:moveTo>
                  <a:pt x="21258" y="13320"/>
                </a:moveTo>
                <a:cubicBezTo>
                  <a:pt x="21244" y="13417"/>
                  <a:pt x="21217" y="13499"/>
                  <a:pt x="21183" y="13593"/>
                </a:cubicBezTo>
                <a:cubicBezTo>
                  <a:pt x="21302" y="13593"/>
                  <a:pt x="21393" y="13564"/>
                  <a:pt x="21506" y="13543"/>
                </a:cubicBezTo>
              </a:path>
              <a:path w="2754" h="2655">
                <a:moveTo>
                  <a:pt x="21506" y="13345"/>
                </a:moveTo>
                <a:cubicBezTo>
                  <a:pt x="21506" y="13469"/>
                  <a:pt x="21506" y="13593"/>
                  <a:pt x="21506" y="13717"/>
                </a:cubicBezTo>
              </a:path>
              <a:path w="2754" h="2655">
                <a:moveTo>
                  <a:pt x="21729" y="13345"/>
                </a:moveTo>
                <a:cubicBezTo>
                  <a:pt x="21721" y="13391"/>
                  <a:pt x="21609" y="13682"/>
                  <a:pt x="21654" y="13717"/>
                </a:cubicBezTo>
                <a:cubicBezTo>
                  <a:pt x="21718" y="13767"/>
                  <a:pt x="21853" y="13669"/>
                  <a:pt x="21903" y="13643"/>
                </a:cubicBezTo>
                <a:cubicBezTo>
                  <a:pt x="21903" y="13601"/>
                  <a:pt x="21911" y="13585"/>
                  <a:pt x="21878" y="13593"/>
                </a:cubicBezTo>
                <a:cubicBezTo>
                  <a:pt x="21788" y="13642"/>
                  <a:pt x="21776" y="13639"/>
                  <a:pt x="21754" y="13742"/>
                </a:cubicBezTo>
              </a:path>
              <a:path w="2754" h="2655">
                <a:moveTo>
                  <a:pt x="22101" y="13444"/>
                </a:moveTo>
                <a:cubicBezTo>
                  <a:pt x="22009" y="13536"/>
                  <a:pt x="22022" y="13612"/>
                  <a:pt x="22051" y="13742"/>
                </a:cubicBezTo>
                <a:cubicBezTo>
                  <a:pt x="22226" y="13717"/>
                  <a:pt x="22285" y="13690"/>
                  <a:pt x="22324" y="13519"/>
                </a:cubicBezTo>
                <a:cubicBezTo>
                  <a:pt x="22185" y="13449"/>
                  <a:pt x="22146" y="13428"/>
                  <a:pt x="22051" y="13395"/>
                </a:cubicBezTo>
              </a:path>
              <a:path w="2754" h="2655">
                <a:moveTo>
                  <a:pt x="21034" y="13915"/>
                </a:moveTo>
                <a:cubicBezTo>
                  <a:pt x="21034" y="13686"/>
                  <a:pt x="21017" y="13433"/>
                  <a:pt x="21059" y="13221"/>
                </a:cubicBezTo>
                <a:cubicBezTo>
                  <a:pt x="21078" y="13124"/>
                  <a:pt x="21207" y="13171"/>
                  <a:pt x="21307" y="13171"/>
                </a:cubicBezTo>
                <a:cubicBezTo>
                  <a:pt x="21507" y="13171"/>
                  <a:pt x="21702" y="13146"/>
                  <a:pt x="21903" y="13146"/>
                </a:cubicBezTo>
                <a:cubicBezTo>
                  <a:pt x="22029" y="13146"/>
                  <a:pt x="22147" y="13171"/>
                  <a:pt x="22275" y="13171"/>
                </a:cubicBezTo>
                <a:cubicBezTo>
                  <a:pt x="22283" y="13171"/>
                  <a:pt x="22291" y="13171"/>
                  <a:pt x="22299" y="13171"/>
                </a:cubicBezTo>
              </a:path>
              <a:path w="2754" h="2655">
                <a:moveTo>
                  <a:pt x="20265" y="13444"/>
                </a:moveTo>
                <a:cubicBezTo>
                  <a:pt x="20337" y="13397"/>
                  <a:pt x="20358" y="13382"/>
                  <a:pt x="20414" y="13370"/>
                </a:cubicBezTo>
                <a:cubicBezTo>
                  <a:pt x="20442" y="13552"/>
                  <a:pt x="20367" y="13632"/>
                  <a:pt x="20241" y="13767"/>
                </a:cubicBezTo>
                <a:cubicBezTo>
                  <a:pt x="20224" y="13783"/>
                  <a:pt x="20208" y="13800"/>
                  <a:pt x="20191" y="13816"/>
                </a:cubicBezTo>
                <a:cubicBezTo>
                  <a:pt x="20249" y="13739"/>
                  <a:pt x="20355" y="13661"/>
                  <a:pt x="20464" y="13667"/>
                </a:cubicBezTo>
                <a:cubicBezTo>
                  <a:pt x="20472" y="13675"/>
                  <a:pt x="20481" y="13684"/>
                  <a:pt x="20489" y="13692"/>
                </a:cubicBezTo>
              </a:path>
              <a:path w="2754" h="2655">
                <a:moveTo>
                  <a:pt x="20687" y="13419"/>
                </a:moveTo>
                <a:cubicBezTo>
                  <a:pt x="20587" y="13479"/>
                  <a:pt x="20595" y="13578"/>
                  <a:pt x="20588" y="13692"/>
                </a:cubicBezTo>
                <a:cubicBezTo>
                  <a:pt x="20658" y="13706"/>
                  <a:pt x="20837" y="13707"/>
                  <a:pt x="20811" y="13568"/>
                </a:cubicBezTo>
                <a:cubicBezTo>
                  <a:pt x="20797" y="13492"/>
                  <a:pt x="20719" y="13472"/>
                  <a:pt x="20662" y="13444"/>
                </a:cubicBezTo>
              </a:path>
              <a:path w="2754" h="2655">
                <a:moveTo>
                  <a:pt x="21779" y="12626"/>
                </a:moveTo>
                <a:cubicBezTo>
                  <a:pt x="21931" y="12702"/>
                  <a:pt x="21869" y="12851"/>
                  <a:pt x="21729" y="12948"/>
                </a:cubicBezTo>
                <a:cubicBezTo>
                  <a:pt x="21629" y="12988"/>
                  <a:pt x="21611" y="13017"/>
                  <a:pt x="21555" y="12973"/>
                </a:cubicBezTo>
                <a:cubicBezTo>
                  <a:pt x="21611" y="12883"/>
                  <a:pt x="21686" y="12849"/>
                  <a:pt x="21803" y="12898"/>
                </a:cubicBezTo>
                <a:cubicBezTo>
                  <a:pt x="21820" y="12906"/>
                  <a:pt x="21836" y="12915"/>
                  <a:pt x="21853" y="12923"/>
                </a:cubicBezTo>
              </a:path>
              <a:path w="2754" h="2655">
                <a:moveTo>
                  <a:pt x="21357" y="13767"/>
                </a:moveTo>
                <a:cubicBezTo>
                  <a:pt x="21357" y="13913"/>
                  <a:pt x="21367" y="13901"/>
                  <a:pt x="21506" y="13866"/>
                </a:cubicBezTo>
              </a:path>
              <a:path w="2754" h="2655">
                <a:moveTo>
                  <a:pt x="21555" y="13816"/>
                </a:moveTo>
                <a:cubicBezTo>
                  <a:pt x="21511" y="13913"/>
                  <a:pt x="21506" y="13955"/>
                  <a:pt x="21506" y="14064"/>
                </a:cubicBezTo>
              </a:path>
              <a:path w="2754" h="2655">
                <a:moveTo>
                  <a:pt x="21729" y="13742"/>
                </a:moveTo>
                <a:cubicBezTo>
                  <a:pt x="21722" y="13801"/>
                  <a:pt x="21711" y="13856"/>
                  <a:pt x="21704" y="13915"/>
                </a:cubicBezTo>
                <a:cubicBezTo>
                  <a:pt x="21743" y="13923"/>
                  <a:pt x="22011" y="13865"/>
                  <a:pt x="21903" y="13791"/>
                </a:cubicBezTo>
                <a:cubicBezTo>
                  <a:pt x="21820" y="13791"/>
                  <a:pt x="21787" y="13791"/>
                  <a:pt x="21729" y="13791"/>
                </a:cubicBezTo>
              </a:path>
              <a:path w="2754" h="2655">
                <a:moveTo>
                  <a:pt x="21233" y="14263"/>
                </a:moveTo>
                <a:cubicBezTo>
                  <a:pt x="21459" y="14185"/>
                  <a:pt x="21668" y="14129"/>
                  <a:pt x="21903" y="14089"/>
                </a:cubicBezTo>
              </a:path>
              <a:path w="2754" h="2655">
                <a:moveTo>
                  <a:pt x="21927" y="14139"/>
                </a:moveTo>
                <a:cubicBezTo>
                  <a:pt x="21866" y="14274"/>
                  <a:pt x="21817" y="14341"/>
                  <a:pt x="21878" y="14461"/>
                </a:cubicBezTo>
                <a:cubicBezTo>
                  <a:pt x="22004" y="14430"/>
                  <a:pt x="22036" y="14400"/>
                  <a:pt x="22051" y="14263"/>
                </a:cubicBezTo>
                <a:cubicBezTo>
                  <a:pt x="21963" y="14312"/>
                  <a:pt x="21949" y="14327"/>
                  <a:pt x="21903" y="14412"/>
                </a:cubicBezTo>
              </a:path>
              <a:path w="2754" h="2655">
                <a:moveTo>
                  <a:pt x="22200" y="13742"/>
                </a:moveTo>
                <a:cubicBezTo>
                  <a:pt x="22228" y="13840"/>
                  <a:pt x="22251" y="13939"/>
                  <a:pt x="22275" y="14039"/>
                </a:cubicBezTo>
              </a:path>
              <a:path w="2754" h="2655">
                <a:moveTo>
                  <a:pt x="22473" y="14362"/>
                </a:moveTo>
                <a:cubicBezTo>
                  <a:pt x="22362" y="14392"/>
                  <a:pt x="22372" y="14397"/>
                  <a:pt x="22324" y="14511"/>
                </a:cubicBezTo>
                <a:cubicBezTo>
                  <a:pt x="22453" y="14511"/>
                  <a:pt x="22532" y="14454"/>
                  <a:pt x="22448" y="14337"/>
                </a:cubicBezTo>
              </a:path>
              <a:path w="2754" h="2655">
                <a:moveTo>
                  <a:pt x="22175" y="12675"/>
                </a:moveTo>
                <a:cubicBezTo>
                  <a:pt x="22212" y="12634"/>
                  <a:pt x="22394" y="12490"/>
                  <a:pt x="22399" y="12650"/>
                </a:cubicBezTo>
                <a:cubicBezTo>
                  <a:pt x="22374" y="12773"/>
                  <a:pt x="22366" y="12814"/>
                  <a:pt x="22275" y="12849"/>
                </a:cubicBezTo>
                <a:cubicBezTo>
                  <a:pt x="22155" y="12790"/>
                  <a:pt x="22429" y="12763"/>
                  <a:pt x="22523" y="12774"/>
                </a:cubicBezTo>
                <a:cubicBezTo>
                  <a:pt x="22492" y="13022"/>
                  <a:pt x="22412" y="13020"/>
                  <a:pt x="22175" y="13047"/>
                </a:cubicBezTo>
              </a:path>
              <a:path w="2754" h="2655">
                <a:moveTo>
                  <a:pt x="22126" y="14610"/>
                </a:moveTo>
                <a:cubicBezTo>
                  <a:pt x="22036" y="14520"/>
                  <a:pt x="22002" y="14913"/>
                  <a:pt x="22126" y="14883"/>
                </a:cubicBezTo>
                <a:cubicBezTo>
                  <a:pt x="22218" y="14791"/>
                  <a:pt x="22247" y="14766"/>
                  <a:pt x="22275" y="14684"/>
                </a:cubicBezTo>
                <a:cubicBezTo>
                  <a:pt x="22217" y="14657"/>
                  <a:pt x="22208" y="14782"/>
                  <a:pt x="22200" y="14858"/>
                </a:cubicBezTo>
              </a:path>
              <a:path w="2754" h="2655">
                <a:moveTo>
                  <a:pt x="22423" y="14610"/>
                </a:moveTo>
                <a:cubicBezTo>
                  <a:pt x="22401" y="14702"/>
                  <a:pt x="22390" y="14727"/>
                  <a:pt x="22423" y="14784"/>
                </a:cubicBezTo>
                <a:cubicBezTo>
                  <a:pt x="22578" y="14741"/>
                  <a:pt x="22705" y="14707"/>
                  <a:pt x="22547" y="14585"/>
                </a:cubicBezTo>
              </a:path>
              <a:path w="2754" h="2655">
                <a:moveTo>
                  <a:pt x="22151" y="15007"/>
                </a:moveTo>
                <a:cubicBezTo>
                  <a:pt x="22341" y="14971"/>
                  <a:pt x="22529" y="14937"/>
                  <a:pt x="22721" y="14908"/>
                </a:cubicBezTo>
              </a:path>
              <a:path w="2754" h="2655">
                <a:moveTo>
                  <a:pt x="22820" y="15007"/>
                </a:moveTo>
                <a:cubicBezTo>
                  <a:pt x="22780" y="15130"/>
                  <a:pt x="22763" y="15152"/>
                  <a:pt x="22771" y="15230"/>
                </a:cubicBezTo>
                <a:cubicBezTo>
                  <a:pt x="22933" y="15173"/>
                  <a:pt x="22945" y="15210"/>
                  <a:pt x="22895" y="15056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0120" y="4643280"/>
            <a:ext cx="777960" cy="241560"/>
          </a:xfrm>
          <a:custGeom>
            <a:avLst/>
            <a:gdLst/>
            <a:ahLst/>
            <a:rect l="l" t="t" r="r" b="b"/>
            <a:pathLst>
              <a:path w="2159" h="671">
                <a:moveTo>
                  <a:pt x="1017" y="13022"/>
                </a:moveTo>
                <a:cubicBezTo>
                  <a:pt x="1012" y="13148"/>
                  <a:pt x="901" y="13494"/>
                  <a:pt x="918" y="13568"/>
                </a:cubicBezTo>
                <a:cubicBezTo>
                  <a:pt x="925" y="13598"/>
                  <a:pt x="1090" y="13529"/>
                  <a:pt x="1116" y="13519"/>
                </a:cubicBezTo>
              </a:path>
              <a:path w="2159" h="671">
                <a:moveTo>
                  <a:pt x="1290" y="13221"/>
                </a:moveTo>
                <a:cubicBezTo>
                  <a:pt x="1290" y="13186"/>
                  <a:pt x="1299" y="13173"/>
                  <a:pt x="1339" y="13171"/>
                </a:cubicBezTo>
              </a:path>
              <a:path w="2159" h="671">
                <a:moveTo>
                  <a:pt x="1191" y="13370"/>
                </a:moveTo>
                <a:cubicBezTo>
                  <a:pt x="1207" y="13370"/>
                  <a:pt x="1224" y="13370"/>
                  <a:pt x="1240" y="13370"/>
                </a:cubicBezTo>
              </a:path>
              <a:path w="2159" h="671">
                <a:moveTo>
                  <a:pt x="1612" y="13047"/>
                </a:moveTo>
                <a:cubicBezTo>
                  <a:pt x="1789" y="12950"/>
                  <a:pt x="1783" y="13099"/>
                  <a:pt x="1712" y="13246"/>
                </a:cubicBezTo>
                <a:cubicBezTo>
                  <a:pt x="1687" y="13287"/>
                  <a:pt x="1662" y="13329"/>
                  <a:pt x="1637" y="13370"/>
                </a:cubicBezTo>
                <a:cubicBezTo>
                  <a:pt x="1621" y="13345"/>
                  <a:pt x="1604" y="13320"/>
                  <a:pt x="1588" y="13295"/>
                </a:cubicBezTo>
                <a:cubicBezTo>
                  <a:pt x="1603" y="13200"/>
                  <a:pt x="1689" y="13243"/>
                  <a:pt x="1761" y="13295"/>
                </a:cubicBezTo>
                <a:cubicBezTo>
                  <a:pt x="1778" y="13312"/>
                  <a:pt x="1794" y="13328"/>
                  <a:pt x="1811" y="13345"/>
                </a:cubicBezTo>
              </a:path>
              <a:path w="2159" h="671">
                <a:moveTo>
                  <a:pt x="1960" y="12898"/>
                </a:moveTo>
                <a:cubicBezTo>
                  <a:pt x="2070" y="12898"/>
                  <a:pt x="2125" y="12892"/>
                  <a:pt x="2059" y="13022"/>
                </a:cubicBezTo>
                <a:cubicBezTo>
                  <a:pt x="2051" y="13030"/>
                  <a:pt x="2042" y="13039"/>
                  <a:pt x="2034" y="13047"/>
                </a:cubicBezTo>
                <a:cubicBezTo>
                  <a:pt x="2085" y="13047"/>
                  <a:pt x="2118" y="13041"/>
                  <a:pt x="2158" y="13022"/>
                </a:cubicBezTo>
                <a:cubicBezTo>
                  <a:pt x="2158" y="13129"/>
                  <a:pt x="2172" y="13179"/>
                  <a:pt x="2084" y="13221"/>
                </a:cubicBezTo>
                <a:cubicBezTo>
                  <a:pt x="2067" y="13229"/>
                  <a:pt x="2051" y="13238"/>
                  <a:pt x="2034" y="13246"/>
                </a:cubicBezTo>
              </a:path>
              <a:path w="2159" h="671">
                <a:moveTo>
                  <a:pt x="2530" y="13022"/>
                </a:moveTo>
                <a:cubicBezTo>
                  <a:pt x="2417" y="12992"/>
                  <a:pt x="2289" y="13036"/>
                  <a:pt x="2356" y="13196"/>
                </a:cubicBezTo>
                <a:cubicBezTo>
                  <a:pt x="2429" y="13269"/>
                  <a:pt x="2452" y="13294"/>
                  <a:pt x="2530" y="13271"/>
                </a:cubicBezTo>
              </a:path>
              <a:path w="2159" h="671">
                <a:moveTo>
                  <a:pt x="2704" y="13072"/>
                </a:moveTo>
                <a:cubicBezTo>
                  <a:pt x="2675" y="13130"/>
                  <a:pt x="2679" y="13175"/>
                  <a:pt x="2679" y="13246"/>
                </a:cubicBezTo>
                <a:cubicBezTo>
                  <a:pt x="2769" y="12974"/>
                  <a:pt x="2743" y="13170"/>
                  <a:pt x="2877" y="13171"/>
                </a:cubicBezTo>
                <a:cubicBezTo>
                  <a:pt x="2892" y="13171"/>
                  <a:pt x="2979" y="13024"/>
                  <a:pt x="3001" y="12998"/>
                </a:cubicBezTo>
                <a:cubicBezTo>
                  <a:pt x="3041" y="13083"/>
                  <a:pt x="3066" y="13131"/>
                  <a:pt x="3076" y="13221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:  Students will use ratio/proportion to create scale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rawings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Practice: 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1.) The scale of a map is 3 inches: 13miles. If the distance from your house to your friend’s house is 39 miles, how far is that on the map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.) The scale of a drawing is 2 in:3 m. If the drawing of a garden has a length of 7 in, what is the actual length of the garden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76760" y="2286000"/>
            <a:ext cx="2098440" cy="71280"/>
          </a:xfrm>
          <a:custGeom>
            <a:avLst/>
            <a:gdLst/>
            <a:ahLst/>
            <a:rect l="l" t="t" r="r" b="b"/>
            <a:pathLst>
              <a:path w="5830" h="199">
                <a:moveTo>
                  <a:pt x="10740" y="6400"/>
                </a:moveTo>
                <a:cubicBezTo>
                  <a:pt x="10828" y="6384"/>
                  <a:pt x="10924" y="6356"/>
                  <a:pt x="11013" y="6350"/>
                </a:cubicBezTo>
                <a:cubicBezTo>
                  <a:pt x="11141" y="6341"/>
                  <a:pt x="11265" y="6351"/>
                  <a:pt x="11385" y="6375"/>
                </a:cubicBezTo>
                <a:cubicBezTo>
                  <a:pt x="11458" y="6389"/>
                  <a:pt x="11532" y="6426"/>
                  <a:pt x="11609" y="6424"/>
                </a:cubicBezTo>
                <a:cubicBezTo>
                  <a:pt x="11687" y="6422"/>
                  <a:pt x="11774" y="6402"/>
                  <a:pt x="11857" y="6400"/>
                </a:cubicBezTo>
                <a:cubicBezTo>
                  <a:pt x="11960" y="6398"/>
                  <a:pt x="12087" y="6429"/>
                  <a:pt x="12179" y="6424"/>
                </a:cubicBezTo>
                <a:cubicBezTo>
                  <a:pt x="12219" y="6422"/>
                  <a:pt x="12273" y="6394"/>
                  <a:pt x="12328" y="6400"/>
                </a:cubicBezTo>
                <a:cubicBezTo>
                  <a:pt x="12406" y="6409"/>
                  <a:pt x="12471" y="6422"/>
                  <a:pt x="12551" y="6424"/>
                </a:cubicBezTo>
                <a:cubicBezTo>
                  <a:pt x="12654" y="6426"/>
                  <a:pt x="12754" y="6406"/>
                  <a:pt x="12849" y="6400"/>
                </a:cubicBezTo>
                <a:cubicBezTo>
                  <a:pt x="12936" y="6394"/>
                  <a:pt x="13018" y="6419"/>
                  <a:pt x="13097" y="6424"/>
                </a:cubicBezTo>
                <a:cubicBezTo>
                  <a:pt x="13532" y="6449"/>
                  <a:pt x="13993" y="6423"/>
                  <a:pt x="14412" y="6449"/>
                </a:cubicBezTo>
                <a:cubicBezTo>
                  <a:pt x="14535" y="6457"/>
                  <a:pt x="14673" y="6419"/>
                  <a:pt x="14784" y="6424"/>
                </a:cubicBezTo>
                <a:cubicBezTo>
                  <a:pt x="14844" y="6427"/>
                  <a:pt x="14915" y="6447"/>
                  <a:pt x="14982" y="6449"/>
                </a:cubicBezTo>
                <a:cubicBezTo>
                  <a:pt x="15120" y="6453"/>
                  <a:pt x="15244" y="6428"/>
                  <a:pt x="15379" y="6424"/>
                </a:cubicBezTo>
                <a:cubicBezTo>
                  <a:pt x="15496" y="6421"/>
                  <a:pt x="15616" y="6407"/>
                  <a:pt x="15726" y="6400"/>
                </a:cubicBezTo>
                <a:cubicBezTo>
                  <a:pt x="15801" y="6395"/>
                  <a:pt x="15881" y="6380"/>
                  <a:pt x="15949" y="6375"/>
                </a:cubicBezTo>
                <a:cubicBezTo>
                  <a:pt x="16077" y="6366"/>
                  <a:pt x="16210" y="6383"/>
                  <a:pt x="16321" y="6400"/>
                </a:cubicBezTo>
              </a:path>
              <a:path w="5830" h="199">
                <a:moveTo>
                  <a:pt x="10492" y="6499"/>
                </a:moveTo>
                <a:cubicBezTo>
                  <a:pt x="10596" y="6439"/>
                  <a:pt x="10587" y="6458"/>
                  <a:pt x="10716" y="6474"/>
                </a:cubicBezTo>
                <a:cubicBezTo>
                  <a:pt x="10790" y="6483"/>
                  <a:pt x="10849" y="6508"/>
                  <a:pt x="10914" y="6524"/>
                </a:cubicBezTo>
                <a:cubicBezTo>
                  <a:pt x="11011" y="6548"/>
                  <a:pt x="11140" y="6532"/>
                  <a:pt x="11237" y="6548"/>
                </a:cubicBezTo>
                <a:cubicBezTo>
                  <a:pt x="11311" y="6560"/>
                  <a:pt x="11368" y="6535"/>
                  <a:pt x="11435" y="6524"/>
                </a:cubicBezTo>
                <a:cubicBezTo>
                  <a:pt x="11497" y="6514"/>
                  <a:pt x="11570" y="6524"/>
                  <a:pt x="11633" y="6524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55920" y="2928960"/>
            <a:ext cx="125280" cy="108000"/>
          </a:xfrm>
          <a:custGeom>
            <a:avLst/>
            <a:gdLst/>
            <a:ahLst/>
            <a:rect l="l" t="t" r="r" b="b"/>
            <a:pathLst>
              <a:path w="349" h="299">
                <a:moveTo>
                  <a:pt x="6821" y="8285"/>
                </a:moveTo>
                <a:cubicBezTo>
                  <a:pt x="6943" y="8239"/>
                  <a:pt x="6996" y="8274"/>
                  <a:pt x="7094" y="8359"/>
                </a:cubicBezTo>
                <a:cubicBezTo>
                  <a:pt x="7136" y="8401"/>
                  <a:pt x="7144" y="8409"/>
                  <a:pt x="7169" y="8434"/>
                </a:cubicBezTo>
              </a:path>
              <a:path w="349" h="299">
                <a:moveTo>
                  <a:pt x="7094" y="8136"/>
                </a:moveTo>
                <a:cubicBezTo>
                  <a:pt x="7058" y="8234"/>
                  <a:pt x="7030" y="8307"/>
                  <a:pt x="7020" y="8409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51120" y="2840040"/>
            <a:ext cx="160200" cy="196920"/>
          </a:xfrm>
          <a:custGeom>
            <a:avLst/>
            <a:gdLst/>
            <a:ahLst/>
            <a:rect l="l" t="t" r="r" b="b"/>
            <a:pathLst>
              <a:path w="447" h="547">
                <a:moveTo>
                  <a:pt x="7714" y="8012"/>
                </a:moveTo>
                <a:cubicBezTo>
                  <a:pt x="7823" y="7971"/>
                  <a:pt x="7845" y="7999"/>
                  <a:pt x="7813" y="8111"/>
                </a:cubicBezTo>
                <a:cubicBezTo>
                  <a:pt x="7925" y="8090"/>
                  <a:pt x="8148" y="8055"/>
                  <a:pt x="8037" y="8260"/>
                </a:cubicBezTo>
                <a:cubicBezTo>
                  <a:pt x="7990" y="8347"/>
                  <a:pt x="7833" y="8334"/>
                  <a:pt x="7863" y="8334"/>
                </a:cubicBezTo>
              </a:path>
              <a:path w="447" h="547">
                <a:moveTo>
                  <a:pt x="7640" y="7962"/>
                </a:moveTo>
                <a:cubicBezTo>
                  <a:pt x="7734" y="7916"/>
                  <a:pt x="7786" y="7901"/>
                  <a:pt x="7888" y="7888"/>
                </a:cubicBezTo>
                <a:cubicBezTo>
                  <a:pt x="7897" y="8076"/>
                  <a:pt x="7909" y="8071"/>
                  <a:pt x="7764" y="8186"/>
                </a:cubicBezTo>
                <a:cubicBezTo>
                  <a:pt x="7762" y="8238"/>
                  <a:pt x="7927" y="8030"/>
                  <a:pt x="8037" y="8136"/>
                </a:cubicBezTo>
                <a:cubicBezTo>
                  <a:pt x="8204" y="8297"/>
                  <a:pt x="7997" y="8412"/>
                  <a:pt x="7863" y="8434"/>
                </a:cubicBezTo>
                <a:cubicBezTo>
                  <a:pt x="7797" y="8434"/>
                  <a:pt x="7780" y="8434"/>
                  <a:pt x="7739" y="8434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73840" y="2714760"/>
            <a:ext cx="357120" cy="223560"/>
          </a:xfrm>
          <a:custGeom>
            <a:avLst/>
            <a:gdLst/>
            <a:ahLst/>
            <a:rect l="l" t="t" r="r" b="b"/>
            <a:pathLst>
              <a:path w="994" h="621">
                <a:moveTo>
                  <a:pt x="16619" y="7640"/>
                </a:moveTo>
                <a:cubicBezTo>
                  <a:pt x="16729" y="7616"/>
                  <a:pt x="16942" y="7585"/>
                  <a:pt x="16867" y="7789"/>
                </a:cubicBezTo>
                <a:cubicBezTo>
                  <a:pt x="16807" y="7870"/>
                  <a:pt x="16802" y="7893"/>
                  <a:pt x="16743" y="7913"/>
                </a:cubicBezTo>
                <a:cubicBezTo>
                  <a:pt x="16862" y="7841"/>
                  <a:pt x="16897" y="7815"/>
                  <a:pt x="16991" y="7863"/>
                </a:cubicBezTo>
                <a:cubicBezTo>
                  <a:pt x="16938" y="8114"/>
                  <a:pt x="16846" y="8136"/>
                  <a:pt x="16594" y="8136"/>
                </a:cubicBezTo>
              </a:path>
              <a:path w="994" h="621">
                <a:moveTo>
                  <a:pt x="17289" y="7541"/>
                </a:moveTo>
                <a:cubicBezTo>
                  <a:pt x="17228" y="7643"/>
                  <a:pt x="17188" y="8014"/>
                  <a:pt x="17388" y="7764"/>
                </a:cubicBezTo>
                <a:cubicBezTo>
                  <a:pt x="17405" y="7714"/>
                  <a:pt x="17421" y="7665"/>
                  <a:pt x="17438" y="7615"/>
                </a:cubicBezTo>
                <a:cubicBezTo>
                  <a:pt x="17491" y="7453"/>
                  <a:pt x="17537" y="7793"/>
                  <a:pt x="17587" y="788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51200" y="2973240"/>
            <a:ext cx="1150920" cy="285840"/>
          </a:xfrm>
          <a:custGeom>
            <a:avLst/>
            <a:gdLst/>
            <a:ahLst/>
            <a:rect l="l" t="t" r="r" b="b"/>
            <a:pathLst>
              <a:path w="3201" h="795">
                <a:moveTo>
                  <a:pt x="10914" y="8582"/>
                </a:moveTo>
                <a:cubicBezTo>
                  <a:pt x="10883" y="8705"/>
                  <a:pt x="10862" y="8829"/>
                  <a:pt x="10840" y="8954"/>
                </a:cubicBezTo>
                <a:cubicBezTo>
                  <a:pt x="10817" y="8839"/>
                  <a:pt x="10856" y="8683"/>
                  <a:pt x="10939" y="8582"/>
                </a:cubicBezTo>
                <a:cubicBezTo>
                  <a:pt x="10955" y="8574"/>
                  <a:pt x="10972" y="8566"/>
                  <a:pt x="10988" y="8558"/>
                </a:cubicBezTo>
                <a:cubicBezTo>
                  <a:pt x="11098" y="8666"/>
                  <a:pt x="11120" y="8797"/>
                  <a:pt x="11137" y="8954"/>
                </a:cubicBezTo>
                <a:cubicBezTo>
                  <a:pt x="11070" y="9159"/>
                  <a:pt x="11133" y="8729"/>
                  <a:pt x="11162" y="8682"/>
                </a:cubicBezTo>
                <a:cubicBezTo>
                  <a:pt x="11187" y="8657"/>
                  <a:pt x="11212" y="8632"/>
                  <a:pt x="11237" y="8607"/>
                </a:cubicBezTo>
                <a:cubicBezTo>
                  <a:pt x="11366" y="8591"/>
                  <a:pt x="11412" y="8723"/>
                  <a:pt x="11435" y="8855"/>
                </a:cubicBezTo>
                <a:cubicBezTo>
                  <a:pt x="11444" y="8906"/>
                  <a:pt x="11435" y="8976"/>
                  <a:pt x="11435" y="9029"/>
                </a:cubicBezTo>
              </a:path>
              <a:path w="3201" h="795">
                <a:moveTo>
                  <a:pt x="10889" y="8607"/>
                </a:moveTo>
                <a:cubicBezTo>
                  <a:pt x="10854" y="8366"/>
                  <a:pt x="10864" y="8850"/>
                  <a:pt x="10864" y="8855"/>
                </a:cubicBezTo>
                <a:cubicBezTo>
                  <a:pt x="10864" y="9172"/>
                  <a:pt x="10783" y="8653"/>
                  <a:pt x="10765" y="8582"/>
                </a:cubicBezTo>
                <a:cubicBezTo>
                  <a:pt x="10757" y="8557"/>
                  <a:pt x="10748" y="8533"/>
                  <a:pt x="10740" y="8508"/>
                </a:cubicBezTo>
                <a:cubicBezTo>
                  <a:pt x="10818" y="8635"/>
                  <a:pt x="10885" y="8760"/>
                  <a:pt x="10914" y="8905"/>
                </a:cubicBezTo>
              </a:path>
              <a:path w="3201" h="795">
                <a:moveTo>
                  <a:pt x="10542" y="8582"/>
                </a:moveTo>
                <a:cubicBezTo>
                  <a:pt x="10790" y="8601"/>
                  <a:pt x="11038" y="8638"/>
                  <a:pt x="11286" y="8657"/>
                </a:cubicBezTo>
                <a:cubicBezTo>
                  <a:pt x="11311" y="8657"/>
                  <a:pt x="11336" y="8657"/>
                  <a:pt x="11361" y="8657"/>
                </a:cubicBezTo>
                <a:cubicBezTo>
                  <a:pt x="11119" y="8640"/>
                  <a:pt x="10883" y="8593"/>
                  <a:pt x="10641" y="8582"/>
                </a:cubicBezTo>
                <a:cubicBezTo>
                  <a:pt x="10625" y="8582"/>
                  <a:pt x="10608" y="8582"/>
                  <a:pt x="10592" y="8582"/>
                </a:cubicBezTo>
              </a:path>
              <a:path w="3201" h="795">
                <a:moveTo>
                  <a:pt x="10914" y="8682"/>
                </a:moveTo>
                <a:lnTo>
                  <a:pt x="10914" y="8682"/>
                </a:lnTo>
              </a:path>
              <a:path w="3201" h="795">
                <a:moveTo>
                  <a:pt x="10492" y="8607"/>
                </a:moveTo>
                <a:cubicBezTo>
                  <a:pt x="10767" y="8638"/>
                  <a:pt x="11032" y="8692"/>
                  <a:pt x="11311" y="8706"/>
                </a:cubicBezTo>
                <a:cubicBezTo>
                  <a:pt x="11551" y="8706"/>
                  <a:pt x="10980" y="8696"/>
                  <a:pt x="10740" y="8682"/>
                </a:cubicBezTo>
                <a:cubicBezTo>
                  <a:pt x="10308" y="8657"/>
                  <a:pt x="10459" y="8654"/>
                  <a:pt x="10740" y="8657"/>
                </a:cubicBezTo>
                <a:cubicBezTo>
                  <a:pt x="11021" y="8657"/>
                  <a:pt x="11087" y="8657"/>
                  <a:pt x="11261" y="8657"/>
                </a:cubicBezTo>
              </a:path>
              <a:path w="3201" h="795">
                <a:moveTo>
                  <a:pt x="10468" y="9004"/>
                </a:moveTo>
                <a:cubicBezTo>
                  <a:pt x="10761" y="8992"/>
                  <a:pt x="11043" y="8962"/>
                  <a:pt x="11336" y="9004"/>
                </a:cubicBezTo>
                <a:cubicBezTo>
                  <a:pt x="11631" y="9046"/>
                  <a:pt x="10685" y="9054"/>
                  <a:pt x="10666" y="9054"/>
                </a:cubicBezTo>
                <a:cubicBezTo>
                  <a:pt x="10600" y="9054"/>
                  <a:pt x="10534" y="9054"/>
                  <a:pt x="10468" y="9054"/>
                </a:cubicBezTo>
                <a:cubicBezTo>
                  <a:pt x="10451" y="9054"/>
                  <a:pt x="10435" y="9054"/>
                  <a:pt x="10418" y="9054"/>
                </a:cubicBezTo>
                <a:cubicBezTo>
                  <a:pt x="10757" y="9054"/>
                  <a:pt x="11096" y="9054"/>
                  <a:pt x="11435" y="9054"/>
                </a:cubicBezTo>
              </a:path>
              <a:path w="3201" h="795">
                <a:moveTo>
                  <a:pt x="10815" y="8682"/>
                </a:moveTo>
                <a:cubicBezTo>
                  <a:pt x="10833" y="8748"/>
                  <a:pt x="10863" y="9097"/>
                  <a:pt x="10889" y="8930"/>
                </a:cubicBezTo>
                <a:cubicBezTo>
                  <a:pt x="10903" y="8839"/>
                  <a:pt x="10914" y="8664"/>
                  <a:pt x="10914" y="8756"/>
                </a:cubicBezTo>
                <a:cubicBezTo>
                  <a:pt x="10914" y="8855"/>
                  <a:pt x="10914" y="8872"/>
                  <a:pt x="10914" y="8930"/>
                </a:cubicBezTo>
              </a:path>
              <a:path w="3201" h="795">
                <a:moveTo>
                  <a:pt x="10542" y="8657"/>
                </a:moveTo>
                <a:cubicBezTo>
                  <a:pt x="10720" y="8683"/>
                  <a:pt x="10905" y="8677"/>
                  <a:pt x="11088" y="8682"/>
                </a:cubicBezTo>
                <a:cubicBezTo>
                  <a:pt x="11246" y="8682"/>
                  <a:pt x="11274" y="8670"/>
                  <a:pt x="11361" y="8706"/>
                </a:cubicBezTo>
              </a:path>
              <a:path w="3201" h="795">
                <a:moveTo>
                  <a:pt x="12576" y="8508"/>
                </a:moveTo>
                <a:cubicBezTo>
                  <a:pt x="12534" y="8380"/>
                  <a:pt x="12448" y="8305"/>
                  <a:pt x="12303" y="8285"/>
                </a:cubicBezTo>
                <a:cubicBezTo>
                  <a:pt x="12094" y="8256"/>
                  <a:pt x="11952" y="8346"/>
                  <a:pt x="11981" y="8582"/>
                </a:cubicBezTo>
                <a:cubicBezTo>
                  <a:pt x="11997" y="8607"/>
                  <a:pt x="12014" y="8632"/>
                  <a:pt x="12030" y="8657"/>
                </a:cubicBezTo>
                <a:cubicBezTo>
                  <a:pt x="12202" y="8705"/>
                  <a:pt x="12381" y="8709"/>
                  <a:pt x="12477" y="8508"/>
                </a:cubicBezTo>
                <a:cubicBezTo>
                  <a:pt x="12519" y="8421"/>
                  <a:pt x="12455" y="8217"/>
                  <a:pt x="12502" y="8310"/>
                </a:cubicBezTo>
                <a:cubicBezTo>
                  <a:pt x="12558" y="8484"/>
                  <a:pt x="12634" y="8648"/>
                  <a:pt x="12650" y="8830"/>
                </a:cubicBezTo>
              </a:path>
              <a:path w="3201" h="795">
                <a:moveTo>
                  <a:pt x="11559" y="8880"/>
                </a:moveTo>
                <a:cubicBezTo>
                  <a:pt x="11630" y="8832"/>
                  <a:pt x="11651" y="8816"/>
                  <a:pt x="11708" y="8806"/>
                </a:cubicBezTo>
              </a:path>
              <a:path w="3201" h="795">
                <a:moveTo>
                  <a:pt x="11584" y="8979"/>
                </a:moveTo>
                <a:cubicBezTo>
                  <a:pt x="11687" y="8938"/>
                  <a:pt x="11770" y="8930"/>
                  <a:pt x="11881" y="8930"/>
                </a:cubicBezTo>
              </a:path>
              <a:path w="3201" h="795">
                <a:moveTo>
                  <a:pt x="12923" y="8706"/>
                </a:moveTo>
                <a:cubicBezTo>
                  <a:pt x="12968" y="8796"/>
                  <a:pt x="12981" y="8819"/>
                  <a:pt x="12998" y="8880"/>
                </a:cubicBezTo>
              </a:path>
              <a:path w="3201" h="795">
                <a:moveTo>
                  <a:pt x="12849" y="8483"/>
                </a:moveTo>
                <a:lnTo>
                  <a:pt x="12849" y="8483"/>
                </a:lnTo>
              </a:path>
              <a:path w="3201" h="795">
                <a:moveTo>
                  <a:pt x="13196" y="8682"/>
                </a:moveTo>
                <a:cubicBezTo>
                  <a:pt x="13219" y="8749"/>
                  <a:pt x="13224" y="8767"/>
                  <a:pt x="13246" y="8806"/>
                </a:cubicBezTo>
                <a:cubicBezTo>
                  <a:pt x="13191" y="8724"/>
                  <a:pt x="13189" y="8669"/>
                  <a:pt x="13246" y="8582"/>
                </a:cubicBezTo>
                <a:cubicBezTo>
                  <a:pt x="13316" y="8475"/>
                  <a:pt x="13421" y="8638"/>
                  <a:pt x="13444" y="8682"/>
                </a:cubicBezTo>
                <a:cubicBezTo>
                  <a:pt x="13466" y="8722"/>
                  <a:pt x="13485" y="8786"/>
                  <a:pt x="13494" y="8830"/>
                </a:cubicBezTo>
              </a:path>
              <a:path w="3201" h="795">
                <a:moveTo>
                  <a:pt x="13618" y="8756"/>
                </a:moveTo>
                <a:lnTo>
                  <a:pt x="13618" y="8756"/>
                </a:ln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13280" y="2973240"/>
            <a:ext cx="731880" cy="27792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16148" y="8260"/>
                </a:moveTo>
                <a:cubicBezTo>
                  <a:pt x="16240" y="8389"/>
                  <a:pt x="16296" y="8483"/>
                  <a:pt x="16346" y="8632"/>
                </a:cubicBezTo>
              </a:path>
              <a:path w="2035" h="770">
                <a:moveTo>
                  <a:pt x="16272" y="8359"/>
                </a:moveTo>
                <a:cubicBezTo>
                  <a:pt x="16247" y="8425"/>
                  <a:pt x="16222" y="8492"/>
                  <a:pt x="16197" y="8558"/>
                </a:cubicBezTo>
              </a:path>
              <a:path w="2035" h="770">
                <a:moveTo>
                  <a:pt x="17115" y="8359"/>
                </a:moveTo>
                <a:cubicBezTo>
                  <a:pt x="17137" y="8349"/>
                  <a:pt x="17525" y="8208"/>
                  <a:pt x="17363" y="8409"/>
                </a:cubicBezTo>
                <a:cubicBezTo>
                  <a:pt x="17284" y="8468"/>
                  <a:pt x="17275" y="8493"/>
                  <a:pt x="17214" y="8483"/>
                </a:cubicBezTo>
                <a:cubicBezTo>
                  <a:pt x="17380" y="8459"/>
                  <a:pt x="17430" y="8449"/>
                  <a:pt x="17537" y="8483"/>
                </a:cubicBezTo>
                <a:cubicBezTo>
                  <a:pt x="17440" y="8641"/>
                  <a:pt x="17392" y="8638"/>
                  <a:pt x="17214" y="8706"/>
                </a:cubicBezTo>
              </a:path>
              <a:path w="2035" h="770">
                <a:moveTo>
                  <a:pt x="16321" y="9029"/>
                </a:moveTo>
                <a:cubicBezTo>
                  <a:pt x="16881" y="8937"/>
                  <a:pt x="17438" y="8856"/>
                  <a:pt x="18008" y="8880"/>
                </a:cubicBezTo>
                <a:cubicBezTo>
                  <a:pt x="18066" y="8888"/>
                  <a:pt x="18124" y="8897"/>
                  <a:pt x="18182" y="890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63800" y="3081240"/>
            <a:ext cx="2662200" cy="588960"/>
          </a:xfrm>
          <a:custGeom>
            <a:avLst/>
            <a:gdLst/>
            <a:ahLst/>
            <a:rect l="l" t="t" r="r" b="b"/>
            <a:pathLst>
              <a:path w="7393" h="1638">
                <a:moveTo>
                  <a:pt x="6052" y="8657"/>
                </a:moveTo>
                <a:cubicBezTo>
                  <a:pt x="6165" y="8582"/>
                  <a:pt x="6465" y="8474"/>
                  <a:pt x="6424" y="8756"/>
                </a:cubicBezTo>
                <a:cubicBezTo>
                  <a:pt x="6401" y="8911"/>
                  <a:pt x="6293" y="8950"/>
                  <a:pt x="6176" y="9004"/>
                </a:cubicBezTo>
                <a:cubicBezTo>
                  <a:pt x="6356" y="9004"/>
                  <a:pt x="6571" y="9093"/>
                  <a:pt x="6300" y="9277"/>
                </a:cubicBezTo>
                <a:cubicBezTo>
                  <a:pt x="6171" y="9364"/>
                  <a:pt x="5942" y="9364"/>
                  <a:pt x="5879" y="9252"/>
                </a:cubicBezTo>
              </a:path>
              <a:path w="7393" h="1638">
                <a:moveTo>
                  <a:pt x="6921" y="9054"/>
                </a:moveTo>
                <a:cubicBezTo>
                  <a:pt x="6899" y="9146"/>
                  <a:pt x="6880" y="9233"/>
                  <a:pt x="6871" y="9327"/>
                </a:cubicBezTo>
              </a:path>
              <a:path w="7393" h="1638">
                <a:moveTo>
                  <a:pt x="6846" y="8806"/>
                </a:moveTo>
                <a:lnTo>
                  <a:pt x="6846" y="8806"/>
                </a:lnTo>
              </a:path>
              <a:path w="7393" h="1638">
                <a:moveTo>
                  <a:pt x="7069" y="9103"/>
                </a:moveTo>
                <a:cubicBezTo>
                  <a:pt x="7049" y="9186"/>
                  <a:pt x="7041" y="9201"/>
                  <a:pt x="7045" y="9252"/>
                </a:cubicBezTo>
                <a:cubicBezTo>
                  <a:pt x="7033" y="9143"/>
                  <a:pt x="7005" y="8863"/>
                  <a:pt x="7218" y="8930"/>
                </a:cubicBezTo>
                <a:cubicBezTo>
                  <a:pt x="7372" y="8978"/>
                  <a:pt x="7336" y="9132"/>
                  <a:pt x="7342" y="9252"/>
                </a:cubicBezTo>
              </a:path>
              <a:path w="7393" h="1638">
                <a:moveTo>
                  <a:pt x="5457" y="9401"/>
                </a:moveTo>
                <a:cubicBezTo>
                  <a:pt x="5823" y="9348"/>
                  <a:pt x="6201" y="9384"/>
                  <a:pt x="6573" y="9351"/>
                </a:cubicBezTo>
                <a:cubicBezTo>
                  <a:pt x="6949" y="9318"/>
                  <a:pt x="7296" y="9261"/>
                  <a:pt x="7665" y="9351"/>
                </a:cubicBezTo>
                <a:cubicBezTo>
                  <a:pt x="7690" y="9359"/>
                  <a:pt x="7714" y="9368"/>
                  <a:pt x="7739" y="9376"/>
                </a:cubicBezTo>
              </a:path>
              <a:path w="7393" h="1638">
                <a:moveTo>
                  <a:pt x="8508" y="9079"/>
                </a:moveTo>
                <a:cubicBezTo>
                  <a:pt x="8690" y="9079"/>
                  <a:pt x="8872" y="9079"/>
                  <a:pt x="9054" y="9079"/>
                </a:cubicBezTo>
              </a:path>
              <a:path w="7393" h="1638">
                <a:moveTo>
                  <a:pt x="8607" y="9426"/>
                </a:moveTo>
                <a:cubicBezTo>
                  <a:pt x="8748" y="9437"/>
                  <a:pt x="8890" y="9468"/>
                  <a:pt x="9029" y="9500"/>
                </a:cubicBezTo>
                <a:cubicBezTo>
                  <a:pt x="9062" y="9508"/>
                  <a:pt x="9095" y="9517"/>
                  <a:pt x="9128" y="9525"/>
                </a:cubicBezTo>
              </a:path>
              <a:path w="7393" h="1638">
                <a:moveTo>
                  <a:pt x="9897" y="9252"/>
                </a:moveTo>
                <a:cubicBezTo>
                  <a:pt x="10098" y="9252"/>
                  <a:pt x="10291" y="9258"/>
                  <a:pt x="10492" y="9277"/>
                </a:cubicBezTo>
                <a:cubicBezTo>
                  <a:pt x="10907" y="9316"/>
                  <a:pt x="11319" y="9361"/>
                  <a:pt x="11733" y="9401"/>
                </a:cubicBezTo>
                <a:cubicBezTo>
                  <a:pt x="11992" y="9426"/>
                  <a:pt x="12246" y="9465"/>
                  <a:pt x="12502" y="9500"/>
                </a:cubicBezTo>
                <a:cubicBezTo>
                  <a:pt x="12518" y="9500"/>
                  <a:pt x="12535" y="9500"/>
                  <a:pt x="12551" y="9500"/>
                </a:cubicBezTo>
              </a:path>
              <a:path w="7393" h="1638">
                <a:moveTo>
                  <a:pt x="10021" y="9674"/>
                </a:moveTo>
                <a:cubicBezTo>
                  <a:pt x="10113" y="9654"/>
                  <a:pt x="10241" y="9558"/>
                  <a:pt x="10344" y="9575"/>
                </a:cubicBezTo>
                <a:cubicBezTo>
                  <a:pt x="10610" y="9619"/>
                  <a:pt x="10343" y="9861"/>
                  <a:pt x="10269" y="9922"/>
                </a:cubicBezTo>
                <a:cubicBezTo>
                  <a:pt x="10253" y="9922"/>
                  <a:pt x="10236" y="9922"/>
                  <a:pt x="10220" y="9922"/>
                </a:cubicBezTo>
                <a:cubicBezTo>
                  <a:pt x="10260" y="9861"/>
                  <a:pt x="10437" y="9849"/>
                  <a:pt x="10418" y="9996"/>
                </a:cubicBezTo>
                <a:cubicBezTo>
                  <a:pt x="10394" y="10177"/>
                  <a:pt x="10098" y="10255"/>
                  <a:pt x="9971" y="10145"/>
                </a:cubicBezTo>
                <a:cubicBezTo>
                  <a:pt x="9927" y="10057"/>
                  <a:pt x="9911" y="10035"/>
                  <a:pt x="9922" y="9971"/>
                </a:cubicBezTo>
              </a:path>
              <a:path w="7393" h="1638">
                <a:moveTo>
                  <a:pt x="10840" y="9847"/>
                </a:moveTo>
                <a:cubicBezTo>
                  <a:pt x="10816" y="9790"/>
                  <a:pt x="10727" y="9587"/>
                  <a:pt x="10666" y="9575"/>
                </a:cubicBezTo>
                <a:cubicBezTo>
                  <a:pt x="10524" y="9547"/>
                  <a:pt x="10454" y="9755"/>
                  <a:pt x="10418" y="9847"/>
                </a:cubicBezTo>
                <a:cubicBezTo>
                  <a:pt x="10569" y="9930"/>
                  <a:pt x="10688" y="9900"/>
                  <a:pt x="10765" y="9723"/>
                </a:cubicBezTo>
                <a:cubicBezTo>
                  <a:pt x="10765" y="9707"/>
                  <a:pt x="10765" y="9690"/>
                  <a:pt x="10765" y="9674"/>
                </a:cubicBezTo>
                <a:cubicBezTo>
                  <a:pt x="10756" y="9807"/>
                  <a:pt x="10740" y="9936"/>
                  <a:pt x="10740" y="10071"/>
                </a:cubicBezTo>
              </a:path>
              <a:path w="7393" h="1638">
                <a:moveTo>
                  <a:pt x="11112" y="9823"/>
                </a:moveTo>
                <a:cubicBezTo>
                  <a:pt x="11093" y="9910"/>
                  <a:pt x="11088" y="9981"/>
                  <a:pt x="11088" y="10071"/>
                </a:cubicBezTo>
                <a:cubicBezTo>
                  <a:pt x="11116" y="9981"/>
                  <a:pt x="11148" y="9762"/>
                  <a:pt x="11286" y="9798"/>
                </a:cubicBezTo>
                <a:cubicBezTo>
                  <a:pt x="11386" y="9824"/>
                  <a:pt x="11394" y="9916"/>
                  <a:pt x="11410" y="9996"/>
                </a:cubicBezTo>
                <a:cubicBezTo>
                  <a:pt x="11420" y="9902"/>
                  <a:pt x="11440" y="9855"/>
                  <a:pt x="11485" y="9773"/>
                </a:cubicBezTo>
                <a:cubicBezTo>
                  <a:pt x="11598" y="9845"/>
                  <a:pt x="11609" y="9883"/>
                  <a:pt x="11609" y="10021"/>
                </a:cubicBezTo>
              </a:path>
              <a:path w="7393" h="1638">
                <a:moveTo>
                  <a:pt x="11757" y="9823"/>
                </a:moveTo>
                <a:cubicBezTo>
                  <a:pt x="11779" y="9888"/>
                  <a:pt x="11787" y="9903"/>
                  <a:pt x="11782" y="9947"/>
                </a:cubicBezTo>
              </a:path>
              <a:path w="7393" h="1638">
                <a:moveTo>
                  <a:pt x="11782" y="9624"/>
                </a:moveTo>
                <a:lnTo>
                  <a:pt x="11782" y="9624"/>
                </a:lnTo>
              </a:path>
              <a:path w="7393" h="1638">
                <a:moveTo>
                  <a:pt x="11931" y="9500"/>
                </a:moveTo>
                <a:cubicBezTo>
                  <a:pt x="11979" y="9644"/>
                  <a:pt x="11997" y="9798"/>
                  <a:pt x="12030" y="9947"/>
                </a:cubicBezTo>
              </a:path>
              <a:path w="7393" h="1638">
                <a:moveTo>
                  <a:pt x="12105" y="9897"/>
                </a:moveTo>
                <a:cubicBezTo>
                  <a:pt x="12205" y="9873"/>
                  <a:pt x="12399" y="9871"/>
                  <a:pt x="12477" y="9798"/>
                </a:cubicBezTo>
                <a:cubicBezTo>
                  <a:pt x="12485" y="9781"/>
                  <a:pt x="12494" y="9765"/>
                  <a:pt x="12502" y="9748"/>
                </a:cubicBezTo>
                <a:cubicBezTo>
                  <a:pt x="12490" y="9657"/>
                  <a:pt x="12419" y="9569"/>
                  <a:pt x="12303" y="9624"/>
                </a:cubicBezTo>
                <a:cubicBezTo>
                  <a:pt x="12190" y="9677"/>
                  <a:pt x="12191" y="9798"/>
                  <a:pt x="12179" y="9897"/>
                </a:cubicBezTo>
                <a:cubicBezTo>
                  <a:pt x="12339" y="9954"/>
                  <a:pt x="12360" y="9947"/>
                  <a:pt x="12526" y="9897"/>
                </a:cubicBezTo>
              </a:path>
              <a:path w="7393" h="1638">
                <a:moveTo>
                  <a:pt x="12725" y="9575"/>
                </a:moveTo>
                <a:cubicBezTo>
                  <a:pt x="12655" y="9620"/>
                  <a:pt x="12635" y="9632"/>
                  <a:pt x="12601" y="9674"/>
                </a:cubicBezTo>
                <a:cubicBezTo>
                  <a:pt x="12690" y="9718"/>
                  <a:pt x="12769" y="9747"/>
                  <a:pt x="12849" y="9798"/>
                </a:cubicBezTo>
                <a:cubicBezTo>
                  <a:pt x="12795" y="9959"/>
                  <a:pt x="12705" y="9940"/>
                  <a:pt x="12551" y="9922"/>
                </a:cubicBezTo>
              </a:path>
              <a:path w="7393" h="1638">
                <a:moveTo>
                  <a:pt x="8607" y="9376"/>
                </a:moveTo>
                <a:cubicBezTo>
                  <a:pt x="8563" y="9341"/>
                  <a:pt x="8399" y="9251"/>
                  <a:pt x="8582" y="9376"/>
                </a:cubicBezTo>
                <a:cubicBezTo>
                  <a:pt x="8793" y="9520"/>
                  <a:pt x="9023" y="9637"/>
                  <a:pt x="9252" y="9748"/>
                </a:cubicBezTo>
                <a:cubicBezTo>
                  <a:pt x="9482" y="9860"/>
                  <a:pt x="8783" y="9534"/>
                  <a:pt x="8582" y="9376"/>
                </a:cubicBezTo>
                <a:cubicBezTo>
                  <a:pt x="8454" y="9247"/>
                  <a:pt x="8428" y="9215"/>
                  <a:pt x="8334" y="9153"/>
                </a:cubicBezTo>
                <a:cubicBezTo>
                  <a:pt x="8575" y="9353"/>
                  <a:pt x="8845" y="9499"/>
                  <a:pt x="9103" y="9674"/>
                </a:cubicBezTo>
                <a:cubicBezTo>
                  <a:pt x="9531" y="9964"/>
                  <a:pt x="8903" y="9493"/>
                  <a:pt x="8880" y="9475"/>
                </a:cubicBezTo>
                <a:cubicBezTo>
                  <a:pt x="8789" y="9409"/>
                  <a:pt x="8698" y="9343"/>
                  <a:pt x="8607" y="9277"/>
                </a:cubicBezTo>
                <a:cubicBezTo>
                  <a:pt x="8044" y="8860"/>
                  <a:pt x="8816" y="9458"/>
                  <a:pt x="8930" y="9525"/>
                </a:cubicBezTo>
                <a:cubicBezTo>
                  <a:pt x="9135" y="9628"/>
                  <a:pt x="9173" y="9651"/>
                  <a:pt x="9302" y="9699"/>
                </a:cubicBezTo>
                <a:cubicBezTo>
                  <a:pt x="9088" y="9534"/>
                  <a:pt x="8834" y="9429"/>
                  <a:pt x="8607" y="9277"/>
                </a:cubicBezTo>
                <a:cubicBezTo>
                  <a:pt x="8081" y="8926"/>
                  <a:pt x="8730" y="9409"/>
                  <a:pt x="8830" y="9475"/>
                </a:cubicBezTo>
                <a:cubicBezTo>
                  <a:pt x="9070" y="9615"/>
                  <a:pt x="9112" y="9639"/>
                  <a:pt x="9252" y="9723"/>
                </a:cubicBezTo>
                <a:cubicBezTo>
                  <a:pt x="8997" y="9563"/>
                  <a:pt x="8653" y="9409"/>
                  <a:pt x="8483" y="9153"/>
                </a:cubicBezTo>
                <a:cubicBezTo>
                  <a:pt x="8325" y="8915"/>
                  <a:pt x="8987" y="9420"/>
                  <a:pt x="9227" y="9575"/>
                </a:cubicBezTo>
                <a:cubicBezTo>
                  <a:pt x="9235" y="9583"/>
                  <a:pt x="9244" y="9591"/>
                  <a:pt x="9252" y="9599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83200" y="3295800"/>
            <a:ext cx="446040" cy="285480"/>
          </a:xfrm>
          <a:custGeom>
            <a:avLst/>
            <a:gdLst/>
            <a:ahLst/>
            <a:rect l="l" t="t" r="r" b="b"/>
            <a:pathLst>
              <a:path w="1241" h="795">
                <a:moveTo>
                  <a:pt x="16619" y="9227"/>
                </a:moveTo>
                <a:cubicBezTo>
                  <a:pt x="16667" y="9466"/>
                  <a:pt x="16670" y="9716"/>
                  <a:pt x="16718" y="9947"/>
                </a:cubicBezTo>
              </a:path>
              <a:path w="1241" h="795">
                <a:moveTo>
                  <a:pt x="17090" y="9327"/>
                </a:moveTo>
                <a:cubicBezTo>
                  <a:pt x="17113" y="9535"/>
                  <a:pt x="17118" y="9595"/>
                  <a:pt x="17165" y="9723"/>
                </a:cubicBezTo>
              </a:path>
              <a:path w="1241" h="795">
                <a:moveTo>
                  <a:pt x="17363" y="9302"/>
                </a:moveTo>
                <a:cubicBezTo>
                  <a:pt x="17513" y="9246"/>
                  <a:pt x="17662" y="9220"/>
                  <a:pt x="17810" y="9153"/>
                </a:cubicBezTo>
                <a:cubicBezTo>
                  <a:pt x="17810" y="9381"/>
                  <a:pt x="17783" y="9616"/>
                  <a:pt x="17859" y="9823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5920" y="3768840"/>
            <a:ext cx="1446120" cy="561960"/>
          </a:xfrm>
          <a:custGeom>
            <a:avLst/>
            <a:gdLst/>
            <a:ahLst/>
            <a:rect l="l" t="t" r="r" b="b"/>
            <a:pathLst>
              <a:path w="4019" h="1563">
                <a:moveTo>
                  <a:pt x="10765" y="11088"/>
                </a:moveTo>
                <a:cubicBezTo>
                  <a:pt x="10822" y="11254"/>
                  <a:pt x="10882" y="11418"/>
                  <a:pt x="10939" y="11584"/>
                </a:cubicBezTo>
              </a:path>
              <a:path w="4019" h="1563">
                <a:moveTo>
                  <a:pt x="10517" y="11038"/>
                </a:moveTo>
                <a:cubicBezTo>
                  <a:pt x="10794" y="11046"/>
                  <a:pt x="11041" y="10995"/>
                  <a:pt x="11311" y="11063"/>
                </a:cubicBezTo>
              </a:path>
              <a:path w="4019" h="1563">
                <a:moveTo>
                  <a:pt x="10716" y="11658"/>
                </a:moveTo>
                <a:cubicBezTo>
                  <a:pt x="10956" y="11594"/>
                  <a:pt x="11206" y="11555"/>
                  <a:pt x="11435" y="11460"/>
                </a:cubicBezTo>
              </a:path>
              <a:path w="4019" h="1563">
                <a:moveTo>
                  <a:pt x="11683" y="11063"/>
                </a:moveTo>
                <a:cubicBezTo>
                  <a:pt x="11772" y="11050"/>
                  <a:pt x="11867" y="11029"/>
                  <a:pt x="11956" y="11013"/>
                </a:cubicBezTo>
              </a:path>
              <a:path w="4019" h="1563">
                <a:moveTo>
                  <a:pt x="11559" y="11385"/>
                </a:moveTo>
                <a:cubicBezTo>
                  <a:pt x="11609" y="11369"/>
                  <a:pt x="11658" y="11352"/>
                  <a:pt x="11708" y="11336"/>
                </a:cubicBezTo>
              </a:path>
              <a:path w="4019" h="1563">
                <a:moveTo>
                  <a:pt x="12502" y="11137"/>
                </a:moveTo>
                <a:cubicBezTo>
                  <a:pt x="12491" y="10933"/>
                  <a:pt x="12487" y="10946"/>
                  <a:pt x="12303" y="10840"/>
                </a:cubicBezTo>
                <a:cubicBezTo>
                  <a:pt x="12102" y="10998"/>
                  <a:pt x="12114" y="11006"/>
                  <a:pt x="12080" y="11261"/>
                </a:cubicBezTo>
                <a:cubicBezTo>
                  <a:pt x="12371" y="11306"/>
                  <a:pt x="12443" y="11223"/>
                  <a:pt x="12452" y="10939"/>
                </a:cubicBezTo>
                <a:cubicBezTo>
                  <a:pt x="12452" y="10931"/>
                  <a:pt x="12452" y="10922"/>
                  <a:pt x="12452" y="10914"/>
                </a:cubicBezTo>
                <a:cubicBezTo>
                  <a:pt x="12403" y="11060"/>
                  <a:pt x="12548" y="11290"/>
                  <a:pt x="12601" y="11435"/>
                </a:cubicBezTo>
                <a:cubicBezTo>
                  <a:pt x="12636" y="11542"/>
                  <a:pt x="12653" y="11548"/>
                  <a:pt x="12650" y="11609"/>
                </a:cubicBezTo>
              </a:path>
              <a:path w="4019" h="1563">
                <a:moveTo>
                  <a:pt x="12923" y="11261"/>
                </a:moveTo>
                <a:cubicBezTo>
                  <a:pt x="12931" y="11319"/>
                  <a:pt x="12940" y="11377"/>
                  <a:pt x="12948" y="11435"/>
                </a:cubicBezTo>
              </a:path>
              <a:path w="4019" h="1563">
                <a:moveTo>
                  <a:pt x="12874" y="10864"/>
                </a:moveTo>
                <a:lnTo>
                  <a:pt x="12874" y="10864"/>
                </a:lnTo>
              </a:path>
              <a:path w="4019" h="1563">
                <a:moveTo>
                  <a:pt x="13271" y="11261"/>
                </a:moveTo>
                <a:cubicBezTo>
                  <a:pt x="13434" y="11429"/>
                  <a:pt x="13121" y="11044"/>
                  <a:pt x="13370" y="10988"/>
                </a:cubicBezTo>
                <a:cubicBezTo>
                  <a:pt x="13643" y="10927"/>
                  <a:pt x="13648" y="11195"/>
                  <a:pt x="13692" y="11361"/>
                </a:cubicBezTo>
              </a:path>
              <a:path w="4019" h="1563">
                <a:moveTo>
                  <a:pt x="10120" y="10765"/>
                </a:moveTo>
                <a:cubicBezTo>
                  <a:pt x="10215" y="11103"/>
                  <a:pt x="10305" y="11441"/>
                  <a:pt x="10393" y="11782"/>
                </a:cubicBezTo>
                <a:cubicBezTo>
                  <a:pt x="10436" y="11909"/>
                  <a:pt x="10440" y="11940"/>
                  <a:pt x="10492" y="12005"/>
                </a:cubicBezTo>
                <a:cubicBezTo>
                  <a:pt x="10753" y="12036"/>
                  <a:pt x="11050" y="11951"/>
                  <a:pt x="11311" y="11906"/>
                </a:cubicBezTo>
                <a:cubicBezTo>
                  <a:pt x="12074" y="11773"/>
                  <a:pt x="12799" y="11591"/>
                  <a:pt x="13543" y="11385"/>
                </a:cubicBezTo>
                <a:cubicBezTo>
                  <a:pt x="13597" y="11370"/>
                  <a:pt x="14071" y="11324"/>
                  <a:pt x="14089" y="11187"/>
                </a:cubicBezTo>
                <a:cubicBezTo>
                  <a:pt x="14105" y="11066"/>
                  <a:pt x="14058" y="10696"/>
                  <a:pt x="14015" y="10567"/>
                </a:cubicBezTo>
                <a:cubicBezTo>
                  <a:pt x="13975" y="10446"/>
                  <a:pt x="13846" y="10470"/>
                  <a:pt x="13742" y="10468"/>
                </a:cubicBezTo>
                <a:cubicBezTo>
                  <a:pt x="13334" y="10461"/>
                  <a:pt x="12933" y="10487"/>
                  <a:pt x="12526" y="10517"/>
                </a:cubicBezTo>
                <a:cubicBezTo>
                  <a:pt x="12061" y="10551"/>
                  <a:pt x="11617" y="10648"/>
                  <a:pt x="11162" y="10740"/>
                </a:cubicBezTo>
                <a:cubicBezTo>
                  <a:pt x="10899" y="10793"/>
                  <a:pt x="10613" y="10820"/>
                  <a:pt x="10368" y="10939"/>
                </a:cubicBezTo>
                <a:cubicBezTo>
                  <a:pt x="10262" y="10990"/>
                  <a:pt x="10182" y="11014"/>
                  <a:pt x="10071" y="1103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62760" y="3446640"/>
            <a:ext cx="1216080" cy="706320"/>
          </a:xfrm>
          <a:custGeom>
            <a:avLst/>
            <a:gdLst/>
            <a:ahLst/>
            <a:rect l="l" t="t" r="r" b="b"/>
            <a:pathLst>
              <a:path w="3375" h="1960">
                <a:moveTo>
                  <a:pt x="18306" y="10641"/>
                </a:moveTo>
                <a:cubicBezTo>
                  <a:pt x="18361" y="10838"/>
                  <a:pt x="18405" y="11038"/>
                  <a:pt x="18455" y="11237"/>
                </a:cubicBezTo>
              </a:path>
              <a:path w="3375" h="1960">
                <a:moveTo>
                  <a:pt x="18678" y="10691"/>
                </a:moveTo>
                <a:cubicBezTo>
                  <a:pt x="18734" y="10850"/>
                  <a:pt x="18786" y="11008"/>
                  <a:pt x="18852" y="11162"/>
                </a:cubicBezTo>
              </a:path>
              <a:path w="3375" h="1960">
                <a:moveTo>
                  <a:pt x="19100" y="10592"/>
                </a:moveTo>
                <a:cubicBezTo>
                  <a:pt x="19276" y="10577"/>
                  <a:pt x="19427" y="10514"/>
                  <a:pt x="19596" y="10468"/>
                </a:cubicBezTo>
                <a:cubicBezTo>
                  <a:pt x="19596" y="10660"/>
                  <a:pt x="19576" y="10847"/>
                  <a:pt x="19571" y="11038"/>
                </a:cubicBezTo>
                <a:cubicBezTo>
                  <a:pt x="19571" y="11063"/>
                  <a:pt x="19571" y="11087"/>
                  <a:pt x="19571" y="11112"/>
                </a:cubicBezTo>
              </a:path>
              <a:path w="3375" h="1960">
                <a:moveTo>
                  <a:pt x="17810" y="11534"/>
                </a:moveTo>
                <a:cubicBezTo>
                  <a:pt x="17801" y="11178"/>
                  <a:pt x="17767" y="10858"/>
                  <a:pt x="17661" y="10517"/>
                </a:cubicBezTo>
                <a:cubicBezTo>
                  <a:pt x="18012" y="10434"/>
                  <a:pt x="18452" y="10480"/>
                  <a:pt x="18827" y="10443"/>
                </a:cubicBezTo>
                <a:cubicBezTo>
                  <a:pt x="19274" y="10399"/>
                  <a:pt x="19716" y="10330"/>
                  <a:pt x="20166" y="10319"/>
                </a:cubicBezTo>
                <a:cubicBezTo>
                  <a:pt x="20183" y="10319"/>
                  <a:pt x="20199" y="10319"/>
                  <a:pt x="20216" y="10319"/>
                </a:cubicBezTo>
              </a:path>
              <a:path w="3375" h="1960">
                <a:moveTo>
                  <a:pt x="16842" y="10939"/>
                </a:moveTo>
                <a:cubicBezTo>
                  <a:pt x="16882" y="11104"/>
                  <a:pt x="16914" y="11268"/>
                  <a:pt x="16942" y="11435"/>
                </a:cubicBezTo>
              </a:path>
              <a:path w="3375" h="1960">
                <a:moveTo>
                  <a:pt x="17190" y="10840"/>
                </a:moveTo>
                <a:cubicBezTo>
                  <a:pt x="17361" y="10815"/>
                  <a:pt x="17658" y="10763"/>
                  <a:pt x="17438" y="11013"/>
                </a:cubicBezTo>
                <a:cubicBezTo>
                  <a:pt x="17344" y="11120"/>
                  <a:pt x="17312" y="11119"/>
                  <a:pt x="17338" y="11038"/>
                </a:cubicBezTo>
                <a:cubicBezTo>
                  <a:pt x="17548" y="11003"/>
                  <a:pt x="17550" y="10965"/>
                  <a:pt x="17661" y="11137"/>
                </a:cubicBezTo>
                <a:cubicBezTo>
                  <a:pt x="17503" y="11305"/>
                  <a:pt x="17425" y="11328"/>
                  <a:pt x="17190" y="11286"/>
                </a:cubicBezTo>
              </a:path>
              <a:path w="3375" h="1960">
                <a:moveTo>
                  <a:pt x="19372" y="9798"/>
                </a:moveTo>
                <a:cubicBezTo>
                  <a:pt x="19389" y="9714"/>
                  <a:pt x="19325" y="9467"/>
                  <a:pt x="19174" y="9575"/>
                </a:cubicBezTo>
                <a:cubicBezTo>
                  <a:pt x="19098" y="9702"/>
                  <a:pt x="19072" y="9747"/>
                  <a:pt x="19050" y="9847"/>
                </a:cubicBezTo>
                <a:cubicBezTo>
                  <a:pt x="19269" y="9973"/>
                  <a:pt x="19297" y="9835"/>
                  <a:pt x="19397" y="9624"/>
                </a:cubicBezTo>
                <a:cubicBezTo>
                  <a:pt x="19418" y="9805"/>
                  <a:pt x="19455" y="9991"/>
                  <a:pt x="19496" y="10170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63800" y="3483000"/>
            <a:ext cx="277920" cy="231840"/>
          </a:xfrm>
          <a:custGeom>
            <a:avLst/>
            <a:gdLst/>
            <a:ahLst/>
            <a:rect l="l" t="t" r="r" b="b"/>
            <a:pathLst>
              <a:path w="770" h="646">
                <a:moveTo>
                  <a:pt x="5457" y="9723"/>
                </a:moveTo>
                <a:cubicBezTo>
                  <a:pt x="5527" y="9896"/>
                  <a:pt x="5558" y="10084"/>
                  <a:pt x="5581" y="10269"/>
                </a:cubicBezTo>
                <a:cubicBezTo>
                  <a:pt x="5581" y="10286"/>
                  <a:pt x="5581" y="10302"/>
                  <a:pt x="5581" y="10319"/>
                </a:cubicBezTo>
              </a:path>
              <a:path w="770" h="646">
                <a:moveTo>
                  <a:pt x="5854" y="9798"/>
                </a:moveTo>
                <a:cubicBezTo>
                  <a:pt x="5897" y="9755"/>
                  <a:pt x="6213" y="9555"/>
                  <a:pt x="6176" y="9798"/>
                </a:cubicBezTo>
                <a:cubicBezTo>
                  <a:pt x="6106" y="9892"/>
                  <a:pt x="6086" y="9920"/>
                  <a:pt x="6028" y="9971"/>
                </a:cubicBezTo>
                <a:cubicBezTo>
                  <a:pt x="6106" y="9920"/>
                  <a:pt x="6135" y="9904"/>
                  <a:pt x="6201" y="9947"/>
                </a:cubicBezTo>
                <a:cubicBezTo>
                  <a:pt x="6193" y="10113"/>
                  <a:pt x="6108" y="10351"/>
                  <a:pt x="5879" y="10195"/>
                </a:cubicBezTo>
                <a:cubicBezTo>
                  <a:pt x="5862" y="10170"/>
                  <a:pt x="5846" y="10145"/>
                  <a:pt x="5829" y="10120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9200" y="3438360"/>
            <a:ext cx="598680" cy="222480"/>
          </a:xfrm>
          <a:custGeom>
            <a:avLst/>
            <a:gdLst/>
            <a:ahLst/>
            <a:rect l="l" t="t" r="r" b="b"/>
            <a:pathLst>
              <a:path w="1663" h="621">
                <a:moveTo>
                  <a:pt x="6747" y="9897"/>
                </a:moveTo>
                <a:cubicBezTo>
                  <a:pt x="6730" y="9984"/>
                  <a:pt x="6722" y="10052"/>
                  <a:pt x="6722" y="10145"/>
                </a:cubicBezTo>
                <a:cubicBezTo>
                  <a:pt x="6731" y="10024"/>
                  <a:pt x="6746" y="9777"/>
                  <a:pt x="6945" y="9897"/>
                </a:cubicBezTo>
                <a:cubicBezTo>
                  <a:pt x="7159" y="10026"/>
                  <a:pt x="6933" y="10134"/>
                  <a:pt x="7045" y="9897"/>
                </a:cubicBezTo>
                <a:cubicBezTo>
                  <a:pt x="7061" y="9880"/>
                  <a:pt x="7078" y="9864"/>
                  <a:pt x="7094" y="9847"/>
                </a:cubicBezTo>
                <a:cubicBezTo>
                  <a:pt x="7251" y="9926"/>
                  <a:pt x="7243" y="9960"/>
                  <a:pt x="7243" y="10145"/>
                </a:cubicBezTo>
              </a:path>
              <a:path w="1663" h="621">
                <a:moveTo>
                  <a:pt x="7516" y="9922"/>
                </a:moveTo>
                <a:cubicBezTo>
                  <a:pt x="7537" y="10006"/>
                  <a:pt x="7539" y="10025"/>
                  <a:pt x="7565" y="10071"/>
                </a:cubicBezTo>
              </a:path>
              <a:path w="1663" h="621">
                <a:moveTo>
                  <a:pt x="7441" y="9674"/>
                </a:moveTo>
                <a:lnTo>
                  <a:pt x="7441" y="9674"/>
                </a:lnTo>
              </a:path>
              <a:path w="1663" h="621">
                <a:moveTo>
                  <a:pt x="7565" y="9550"/>
                </a:moveTo>
                <a:cubicBezTo>
                  <a:pt x="7631" y="9739"/>
                  <a:pt x="7692" y="9923"/>
                  <a:pt x="7714" y="10120"/>
                </a:cubicBezTo>
              </a:path>
              <a:path w="1663" h="621">
                <a:moveTo>
                  <a:pt x="7764" y="9971"/>
                </a:moveTo>
                <a:cubicBezTo>
                  <a:pt x="7850" y="9960"/>
                  <a:pt x="7890" y="9966"/>
                  <a:pt x="7913" y="9897"/>
                </a:cubicBezTo>
                <a:cubicBezTo>
                  <a:pt x="7851" y="9760"/>
                  <a:pt x="7794" y="9852"/>
                  <a:pt x="7764" y="9971"/>
                </a:cubicBezTo>
                <a:cubicBezTo>
                  <a:pt x="7764" y="9988"/>
                  <a:pt x="7764" y="10004"/>
                  <a:pt x="7764" y="10021"/>
                </a:cubicBezTo>
                <a:cubicBezTo>
                  <a:pt x="7939" y="10127"/>
                  <a:pt x="8070" y="10000"/>
                  <a:pt x="8235" y="9897"/>
                </a:cubicBezTo>
                <a:cubicBezTo>
                  <a:pt x="8313" y="9845"/>
                  <a:pt x="8334" y="9829"/>
                  <a:pt x="8210" y="9847"/>
                </a:cubicBezTo>
                <a:cubicBezTo>
                  <a:pt x="8142" y="9965"/>
                  <a:pt x="8281" y="9929"/>
                  <a:pt x="8359" y="9996"/>
                </a:cubicBezTo>
                <a:cubicBezTo>
                  <a:pt x="8490" y="10108"/>
                  <a:pt x="8279" y="10151"/>
                  <a:pt x="8235" y="10170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43120" y="3751200"/>
            <a:ext cx="81000" cy="123840"/>
          </a:xfrm>
          <a:custGeom>
            <a:avLst/>
            <a:gdLst/>
            <a:ahLst/>
            <a:rect l="l" t="t" r="r" b="b"/>
            <a:pathLst>
              <a:path w="224" h="348">
                <a:moveTo>
                  <a:pt x="7367" y="10418"/>
                </a:moveTo>
                <a:cubicBezTo>
                  <a:pt x="7367" y="10535"/>
                  <a:pt x="7463" y="10628"/>
                  <a:pt x="7541" y="10740"/>
                </a:cubicBezTo>
              </a:path>
              <a:path w="224" h="348">
                <a:moveTo>
                  <a:pt x="7565" y="10418"/>
                </a:moveTo>
                <a:cubicBezTo>
                  <a:pt x="7495" y="10532"/>
                  <a:pt x="7447" y="10641"/>
                  <a:pt x="7392" y="1076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1320" y="3795840"/>
            <a:ext cx="169920" cy="169560"/>
          </a:xfrm>
          <a:custGeom>
            <a:avLst/>
            <a:gdLst/>
            <a:ahLst/>
            <a:rect l="l" t="t" r="r" b="b"/>
            <a:pathLst>
              <a:path w="473" h="472">
                <a:moveTo>
                  <a:pt x="8086" y="10641"/>
                </a:moveTo>
                <a:cubicBezTo>
                  <a:pt x="8171" y="10574"/>
                  <a:pt x="8294" y="10467"/>
                  <a:pt x="8384" y="10592"/>
                </a:cubicBezTo>
                <a:cubicBezTo>
                  <a:pt x="8461" y="10698"/>
                  <a:pt x="8354" y="10727"/>
                  <a:pt x="8285" y="10765"/>
                </a:cubicBezTo>
                <a:cubicBezTo>
                  <a:pt x="8406" y="10700"/>
                  <a:pt x="8424" y="10719"/>
                  <a:pt x="8558" y="10765"/>
                </a:cubicBezTo>
                <a:cubicBezTo>
                  <a:pt x="8529" y="10953"/>
                  <a:pt x="8452" y="10986"/>
                  <a:pt x="8260" y="11013"/>
                </a:cubicBezTo>
                <a:cubicBezTo>
                  <a:pt x="8235" y="11013"/>
                  <a:pt x="8211" y="11013"/>
                  <a:pt x="8186" y="11013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3241800"/>
            <a:ext cx="911520" cy="258480"/>
          </a:xfrm>
          <a:custGeom>
            <a:avLst/>
            <a:gdLst/>
            <a:ahLst/>
            <a:rect l="l" t="t" r="r" b="b"/>
            <a:pathLst>
              <a:path w="2531" h="720">
                <a:moveTo>
                  <a:pt x="1067" y="9153"/>
                </a:moveTo>
                <a:cubicBezTo>
                  <a:pt x="1090" y="9332"/>
                  <a:pt x="1136" y="9449"/>
                  <a:pt x="992" y="9550"/>
                </a:cubicBezTo>
              </a:path>
              <a:path w="2531" h="720">
                <a:moveTo>
                  <a:pt x="1017" y="9079"/>
                </a:moveTo>
                <a:lnTo>
                  <a:pt x="1017" y="9079"/>
                </a:lnTo>
              </a:path>
              <a:path w="2531" h="720">
                <a:moveTo>
                  <a:pt x="1339" y="9451"/>
                </a:moveTo>
                <a:cubicBezTo>
                  <a:pt x="1321" y="9513"/>
                  <a:pt x="1319" y="9507"/>
                  <a:pt x="1265" y="9550"/>
                </a:cubicBezTo>
                <a:cubicBezTo>
                  <a:pt x="1214" y="9490"/>
                  <a:pt x="1185" y="9269"/>
                  <a:pt x="1315" y="9227"/>
                </a:cubicBezTo>
                <a:cubicBezTo>
                  <a:pt x="1521" y="9161"/>
                  <a:pt x="1488" y="9507"/>
                  <a:pt x="1488" y="9599"/>
                </a:cubicBezTo>
              </a:path>
              <a:path w="2531" h="720">
                <a:moveTo>
                  <a:pt x="1761" y="9327"/>
                </a:moveTo>
                <a:cubicBezTo>
                  <a:pt x="1678" y="9180"/>
                  <a:pt x="1607" y="9335"/>
                  <a:pt x="1563" y="9451"/>
                </a:cubicBezTo>
                <a:cubicBezTo>
                  <a:pt x="1555" y="9492"/>
                  <a:pt x="1546" y="9534"/>
                  <a:pt x="1538" y="9575"/>
                </a:cubicBezTo>
                <a:cubicBezTo>
                  <a:pt x="1752" y="9574"/>
                  <a:pt x="1984" y="9439"/>
                  <a:pt x="2009" y="9178"/>
                </a:cubicBezTo>
                <a:cubicBezTo>
                  <a:pt x="1993" y="9137"/>
                  <a:pt x="1976" y="9095"/>
                  <a:pt x="1960" y="9054"/>
                </a:cubicBezTo>
                <a:cubicBezTo>
                  <a:pt x="1814" y="8932"/>
                  <a:pt x="1954" y="9331"/>
                  <a:pt x="1960" y="9401"/>
                </a:cubicBezTo>
                <a:cubicBezTo>
                  <a:pt x="1960" y="9426"/>
                  <a:pt x="1960" y="9450"/>
                  <a:pt x="1960" y="9475"/>
                </a:cubicBezTo>
                <a:cubicBezTo>
                  <a:pt x="1939" y="9387"/>
                  <a:pt x="1883" y="9208"/>
                  <a:pt x="2034" y="9203"/>
                </a:cubicBezTo>
                <a:cubicBezTo>
                  <a:pt x="2223" y="9196"/>
                  <a:pt x="2200" y="9456"/>
                  <a:pt x="2183" y="9575"/>
                </a:cubicBezTo>
              </a:path>
              <a:path w="2531" h="720">
                <a:moveTo>
                  <a:pt x="2282" y="9351"/>
                </a:moveTo>
                <a:cubicBezTo>
                  <a:pt x="2358" y="9332"/>
                  <a:pt x="2362" y="9322"/>
                  <a:pt x="2406" y="9252"/>
                </a:cubicBezTo>
                <a:cubicBezTo>
                  <a:pt x="2283" y="9244"/>
                  <a:pt x="2130" y="9292"/>
                  <a:pt x="2208" y="9475"/>
                </a:cubicBezTo>
                <a:cubicBezTo>
                  <a:pt x="2224" y="9483"/>
                  <a:pt x="2241" y="9492"/>
                  <a:pt x="2257" y="9500"/>
                </a:cubicBezTo>
              </a:path>
              <a:path w="2531" h="720">
                <a:moveTo>
                  <a:pt x="2778" y="9178"/>
                </a:moveTo>
                <a:cubicBezTo>
                  <a:pt x="2672" y="9199"/>
                  <a:pt x="2645" y="9194"/>
                  <a:pt x="2604" y="9252"/>
                </a:cubicBezTo>
                <a:cubicBezTo>
                  <a:pt x="2708" y="9304"/>
                  <a:pt x="2747" y="9322"/>
                  <a:pt x="2828" y="9327"/>
                </a:cubicBezTo>
                <a:cubicBezTo>
                  <a:pt x="2828" y="9622"/>
                  <a:pt x="2555" y="9524"/>
                  <a:pt x="2332" y="9500"/>
                </a:cubicBezTo>
              </a:path>
              <a:path w="2531" h="720">
                <a:moveTo>
                  <a:pt x="422" y="9649"/>
                </a:moveTo>
                <a:cubicBezTo>
                  <a:pt x="918" y="9675"/>
                  <a:pt x="1411" y="9607"/>
                  <a:pt x="1910" y="9599"/>
                </a:cubicBezTo>
                <a:cubicBezTo>
                  <a:pt x="2124" y="9596"/>
                  <a:pt x="2370" y="9573"/>
                  <a:pt x="2580" y="9624"/>
                </a:cubicBezTo>
                <a:cubicBezTo>
                  <a:pt x="2704" y="9654"/>
                  <a:pt x="2827" y="9693"/>
                  <a:pt x="2952" y="9723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7120" y="3544920"/>
            <a:ext cx="625680" cy="196920"/>
          </a:xfrm>
          <a:custGeom>
            <a:avLst/>
            <a:gdLst/>
            <a:ahLst/>
            <a:rect l="l" t="t" r="r" b="b"/>
            <a:pathLst>
              <a:path w="1738" h="547">
                <a:moveTo>
                  <a:pt x="992" y="10096"/>
                </a:moveTo>
                <a:cubicBezTo>
                  <a:pt x="1015" y="10252"/>
                  <a:pt x="1023" y="10293"/>
                  <a:pt x="1017" y="10393"/>
                </a:cubicBezTo>
                <a:cubicBezTo>
                  <a:pt x="1007" y="10314"/>
                  <a:pt x="926" y="9946"/>
                  <a:pt x="1141" y="10021"/>
                </a:cubicBezTo>
                <a:cubicBezTo>
                  <a:pt x="1281" y="10070"/>
                  <a:pt x="1274" y="10201"/>
                  <a:pt x="1290" y="10319"/>
                </a:cubicBezTo>
                <a:cubicBezTo>
                  <a:pt x="1299" y="10187"/>
                  <a:pt x="1314" y="10151"/>
                  <a:pt x="1389" y="10046"/>
                </a:cubicBezTo>
                <a:cubicBezTo>
                  <a:pt x="1556" y="10102"/>
                  <a:pt x="1553" y="10192"/>
                  <a:pt x="1563" y="10368"/>
                </a:cubicBezTo>
              </a:path>
              <a:path w="1738" h="547">
                <a:moveTo>
                  <a:pt x="1761" y="10170"/>
                </a:moveTo>
                <a:cubicBezTo>
                  <a:pt x="1781" y="10269"/>
                  <a:pt x="1789" y="10285"/>
                  <a:pt x="1786" y="10344"/>
                </a:cubicBezTo>
              </a:path>
              <a:path w="1738" h="547">
                <a:moveTo>
                  <a:pt x="1712" y="9996"/>
                </a:moveTo>
                <a:lnTo>
                  <a:pt x="1712" y="9996"/>
                </a:lnTo>
              </a:path>
              <a:path w="1738" h="547">
                <a:moveTo>
                  <a:pt x="1860" y="9847"/>
                </a:moveTo>
                <a:cubicBezTo>
                  <a:pt x="1937" y="9994"/>
                  <a:pt x="1998" y="10139"/>
                  <a:pt x="2059" y="10294"/>
                </a:cubicBezTo>
              </a:path>
              <a:path w="1738" h="547">
                <a:moveTo>
                  <a:pt x="2158" y="10220"/>
                </a:moveTo>
                <a:cubicBezTo>
                  <a:pt x="2242" y="10199"/>
                  <a:pt x="2261" y="10197"/>
                  <a:pt x="2307" y="10170"/>
                </a:cubicBezTo>
                <a:cubicBezTo>
                  <a:pt x="2233" y="10064"/>
                  <a:pt x="2072" y="9964"/>
                  <a:pt x="2059" y="10195"/>
                </a:cubicBezTo>
                <a:cubicBezTo>
                  <a:pt x="2085" y="10297"/>
                  <a:pt x="2096" y="10331"/>
                  <a:pt x="2183" y="10344"/>
                </a:cubicBezTo>
              </a:path>
              <a:path w="1738" h="547">
                <a:moveTo>
                  <a:pt x="2654" y="10021"/>
                </a:moveTo>
                <a:cubicBezTo>
                  <a:pt x="2570" y="10042"/>
                  <a:pt x="2551" y="10044"/>
                  <a:pt x="2505" y="10071"/>
                </a:cubicBezTo>
                <a:cubicBezTo>
                  <a:pt x="2554" y="10089"/>
                  <a:pt x="2812" y="10125"/>
                  <a:pt x="2729" y="10244"/>
                </a:cubicBezTo>
                <a:cubicBezTo>
                  <a:pt x="2622" y="10324"/>
                  <a:pt x="2580" y="10351"/>
                  <a:pt x="2480" y="10344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01920" y="5464080"/>
            <a:ext cx="2330280" cy="787320"/>
          </a:xfrm>
          <a:custGeom>
            <a:avLst/>
            <a:gdLst/>
            <a:ahLst/>
            <a:rect l="l" t="t" r="r" b="b"/>
            <a:pathLst>
              <a:path w="6475" h="2184">
                <a:moveTo>
                  <a:pt x="6672" y="16346"/>
                </a:moveTo>
                <a:cubicBezTo>
                  <a:pt x="7189" y="16257"/>
                  <a:pt x="7711" y="16189"/>
                  <a:pt x="8235" y="16148"/>
                </a:cubicBezTo>
                <a:cubicBezTo>
                  <a:pt x="8549" y="16124"/>
                  <a:pt x="8843" y="16116"/>
                  <a:pt x="9153" y="16148"/>
                </a:cubicBezTo>
              </a:path>
              <a:path w="6475" h="2184">
                <a:moveTo>
                  <a:pt x="7144" y="16669"/>
                </a:moveTo>
                <a:cubicBezTo>
                  <a:pt x="7309" y="16608"/>
                  <a:pt x="7368" y="16607"/>
                  <a:pt x="7491" y="16718"/>
                </a:cubicBezTo>
                <a:cubicBezTo>
                  <a:pt x="7420" y="16831"/>
                  <a:pt x="7385" y="16879"/>
                  <a:pt x="7268" y="16942"/>
                </a:cubicBezTo>
                <a:cubicBezTo>
                  <a:pt x="7391" y="16951"/>
                  <a:pt x="7674" y="16959"/>
                  <a:pt x="7565" y="17165"/>
                </a:cubicBezTo>
                <a:cubicBezTo>
                  <a:pt x="7458" y="17368"/>
                  <a:pt x="7185" y="17326"/>
                  <a:pt x="7020" y="17239"/>
                </a:cubicBezTo>
                <a:cubicBezTo>
                  <a:pt x="7003" y="17223"/>
                  <a:pt x="6987" y="17206"/>
                  <a:pt x="6970" y="17190"/>
                </a:cubicBezTo>
              </a:path>
              <a:path w="6475" h="2184">
                <a:moveTo>
                  <a:pt x="8086" y="17016"/>
                </a:moveTo>
                <a:cubicBezTo>
                  <a:pt x="8098" y="17114"/>
                  <a:pt x="8128" y="17147"/>
                  <a:pt x="8062" y="17214"/>
                </a:cubicBezTo>
                <a:cubicBezTo>
                  <a:pt x="8080" y="17067"/>
                  <a:pt x="8147" y="16709"/>
                  <a:pt x="8409" y="16842"/>
                </a:cubicBezTo>
                <a:cubicBezTo>
                  <a:pt x="8540" y="16973"/>
                  <a:pt x="8580" y="16998"/>
                  <a:pt x="8607" y="17115"/>
                </a:cubicBezTo>
                <a:cubicBezTo>
                  <a:pt x="8553" y="17253"/>
                  <a:pt x="8509" y="16966"/>
                  <a:pt x="8582" y="16892"/>
                </a:cubicBezTo>
                <a:cubicBezTo>
                  <a:pt x="8783" y="16690"/>
                  <a:pt x="8939" y="16999"/>
                  <a:pt x="8930" y="17165"/>
                </a:cubicBezTo>
                <a:cubicBezTo>
                  <a:pt x="8922" y="17190"/>
                  <a:pt x="8913" y="17214"/>
                  <a:pt x="8905" y="17239"/>
                </a:cubicBezTo>
              </a:path>
              <a:path w="6475" h="2184">
                <a:moveTo>
                  <a:pt x="9823" y="16173"/>
                </a:moveTo>
                <a:cubicBezTo>
                  <a:pt x="9931" y="16162"/>
                  <a:pt x="10036" y="16133"/>
                  <a:pt x="10145" y="16123"/>
                </a:cubicBezTo>
              </a:path>
              <a:path w="6475" h="2184">
                <a:moveTo>
                  <a:pt x="9872" y="16321"/>
                </a:moveTo>
                <a:cubicBezTo>
                  <a:pt x="10004" y="16321"/>
                  <a:pt x="10037" y="16321"/>
                  <a:pt x="10120" y="16321"/>
                </a:cubicBezTo>
              </a:path>
              <a:path w="6475" h="2184">
                <a:moveTo>
                  <a:pt x="10914" y="16321"/>
                </a:moveTo>
                <a:cubicBezTo>
                  <a:pt x="11275" y="16281"/>
                  <a:pt x="11642" y="16269"/>
                  <a:pt x="12005" y="16247"/>
                </a:cubicBezTo>
                <a:cubicBezTo>
                  <a:pt x="12386" y="16224"/>
                  <a:pt x="12764" y="16222"/>
                  <a:pt x="13146" y="16222"/>
                </a:cubicBezTo>
              </a:path>
              <a:path w="6475" h="2184">
                <a:moveTo>
                  <a:pt x="10964" y="15304"/>
                </a:moveTo>
                <a:cubicBezTo>
                  <a:pt x="11129" y="15293"/>
                  <a:pt x="11259" y="15248"/>
                  <a:pt x="11410" y="15180"/>
                </a:cubicBezTo>
                <a:cubicBezTo>
                  <a:pt x="11447" y="15418"/>
                  <a:pt x="11330" y="15642"/>
                  <a:pt x="11261" y="15875"/>
                </a:cubicBezTo>
                <a:cubicBezTo>
                  <a:pt x="11253" y="15908"/>
                  <a:pt x="11245" y="15941"/>
                  <a:pt x="11237" y="15974"/>
                </a:cubicBezTo>
              </a:path>
              <a:path w="6475" h="2184">
                <a:moveTo>
                  <a:pt x="11708" y="15726"/>
                </a:moveTo>
                <a:cubicBezTo>
                  <a:pt x="11787" y="15572"/>
                  <a:pt x="11757" y="15908"/>
                  <a:pt x="11757" y="15949"/>
                </a:cubicBezTo>
              </a:path>
              <a:path w="6475" h="2184">
                <a:moveTo>
                  <a:pt x="11757" y="15528"/>
                </a:moveTo>
                <a:lnTo>
                  <a:pt x="11757" y="15528"/>
                </a:lnTo>
              </a:path>
              <a:path w="6475" h="2184">
                <a:moveTo>
                  <a:pt x="12080" y="15751"/>
                </a:moveTo>
                <a:cubicBezTo>
                  <a:pt x="12102" y="15807"/>
                  <a:pt x="12139" y="16021"/>
                  <a:pt x="12129" y="15900"/>
                </a:cubicBezTo>
                <a:cubicBezTo>
                  <a:pt x="12120" y="15799"/>
                  <a:pt x="12113" y="15624"/>
                  <a:pt x="12278" y="15652"/>
                </a:cubicBezTo>
                <a:cubicBezTo>
                  <a:pt x="12421" y="15676"/>
                  <a:pt x="12423" y="15872"/>
                  <a:pt x="12427" y="15974"/>
                </a:cubicBezTo>
                <a:cubicBezTo>
                  <a:pt x="12427" y="15991"/>
                  <a:pt x="12427" y="16007"/>
                  <a:pt x="12427" y="16024"/>
                </a:cubicBezTo>
              </a:path>
              <a:path w="6475" h="2184">
                <a:moveTo>
                  <a:pt x="11807" y="16942"/>
                </a:moveTo>
                <a:cubicBezTo>
                  <a:pt x="11807" y="16900"/>
                  <a:pt x="11807" y="16892"/>
                  <a:pt x="11807" y="16867"/>
                </a:cubicBezTo>
                <a:cubicBezTo>
                  <a:pt x="11774" y="17024"/>
                  <a:pt x="11769" y="17188"/>
                  <a:pt x="11733" y="17338"/>
                </a:cubicBezTo>
              </a:path>
              <a:path w="6475" h="2184">
                <a:moveTo>
                  <a:pt x="11733" y="16818"/>
                </a:moveTo>
                <a:cubicBezTo>
                  <a:pt x="11868" y="17005"/>
                  <a:pt x="12035" y="17291"/>
                  <a:pt x="12254" y="17363"/>
                </a:cubicBezTo>
                <a:cubicBezTo>
                  <a:pt x="12291" y="17172"/>
                  <a:pt x="12289" y="16964"/>
                  <a:pt x="12303" y="16768"/>
                </a:cubicBezTo>
                <a:cubicBezTo>
                  <a:pt x="12303" y="16700"/>
                  <a:pt x="12300" y="16670"/>
                  <a:pt x="12328" y="16743"/>
                </a:cubicBezTo>
              </a:path>
              <a:path w="6475" h="2184">
                <a:moveTo>
                  <a:pt x="10418" y="16123"/>
                </a:moveTo>
                <a:cubicBezTo>
                  <a:pt x="10396" y="16108"/>
                  <a:pt x="9957" y="16353"/>
                  <a:pt x="9798" y="16446"/>
                </a:cubicBezTo>
                <a:cubicBezTo>
                  <a:pt x="9674" y="16528"/>
                  <a:pt x="9649" y="16545"/>
                  <a:pt x="9575" y="16594"/>
                </a:cubicBezTo>
                <a:cubicBezTo>
                  <a:pt x="9749" y="16400"/>
                  <a:pt x="10037" y="16299"/>
                  <a:pt x="10269" y="16173"/>
                </a:cubicBezTo>
                <a:cubicBezTo>
                  <a:pt x="10427" y="16087"/>
                  <a:pt x="10550" y="16030"/>
                  <a:pt x="10716" y="15974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26080" y="5249880"/>
            <a:ext cx="3286080" cy="1430280"/>
          </a:xfrm>
          <a:custGeom>
            <a:avLst/>
            <a:gdLst/>
            <a:ahLst/>
            <a:rect l="l" t="t" r="r" b="b"/>
            <a:pathLst>
              <a:path w="9129" h="3970">
                <a:moveTo>
                  <a:pt x="15627" y="14635"/>
                </a:moveTo>
                <a:cubicBezTo>
                  <a:pt x="15846" y="14674"/>
                  <a:pt x="16049" y="14709"/>
                  <a:pt x="16272" y="14709"/>
                </a:cubicBezTo>
                <a:cubicBezTo>
                  <a:pt x="16234" y="14891"/>
                  <a:pt x="16184" y="15054"/>
                  <a:pt x="16123" y="15230"/>
                </a:cubicBezTo>
              </a:path>
              <a:path w="9129" h="3970">
                <a:moveTo>
                  <a:pt x="16520" y="14759"/>
                </a:moveTo>
                <a:cubicBezTo>
                  <a:pt x="16570" y="14895"/>
                  <a:pt x="16682" y="15027"/>
                  <a:pt x="16768" y="15156"/>
                </a:cubicBezTo>
              </a:path>
              <a:path w="9129" h="3970">
                <a:moveTo>
                  <a:pt x="16694" y="14808"/>
                </a:moveTo>
                <a:cubicBezTo>
                  <a:pt x="16606" y="14984"/>
                  <a:pt x="16586" y="15028"/>
                  <a:pt x="16520" y="15131"/>
                </a:cubicBezTo>
              </a:path>
              <a:path w="9129" h="3970">
                <a:moveTo>
                  <a:pt x="16991" y="14734"/>
                </a:moveTo>
                <a:cubicBezTo>
                  <a:pt x="17068" y="14688"/>
                  <a:pt x="17399" y="14499"/>
                  <a:pt x="17314" y="14759"/>
                </a:cubicBezTo>
                <a:cubicBezTo>
                  <a:pt x="17289" y="14792"/>
                  <a:pt x="17264" y="14825"/>
                  <a:pt x="17239" y="14858"/>
                </a:cubicBezTo>
                <a:cubicBezTo>
                  <a:pt x="17214" y="14875"/>
                  <a:pt x="17190" y="14891"/>
                  <a:pt x="17165" y="14908"/>
                </a:cubicBezTo>
                <a:cubicBezTo>
                  <a:pt x="17340" y="14819"/>
                  <a:pt x="17497" y="14944"/>
                  <a:pt x="17289" y="15106"/>
                </a:cubicBezTo>
                <a:cubicBezTo>
                  <a:pt x="17143" y="15179"/>
                  <a:pt x="17096" y="15204"/>
                  <a:pt x="16991" y="15131"/>
                </a:cubicBezTo>
              </a:path>
              <a:path w="9129" h="3970">
                <a:moveTo>
                  <a:pt x="17735" y="14784"/>
                </a:moveTo>
                <a:cubicBezTo>
                  <a:pt x="17768" y="14792"/>
                  <a:pt x="17802" y="14800"/>
                  <a:pt x="17835" y="14808"/>
                </a:cubicBezTo>
              </a:path>
              <a:path w="9129" h="3970">
                <a:moveTo>
                  <a:pt x="17760" y="14932"/>
                </a:moveTo>
                <a:cubicBezTo>
                  <a:pt x="17793" y="14932"/>
                  <a:pt x="17826" y="14932"/>
                  <a:pt x="17859" y="14932"/>
                </a:cubicBezTo>
              </a:path>
              <a:path w="9129" h="3970">
                <a:moveTo>
                  <a:pt x="18628" y="14610"/>
                </a:moveTo>
                <a:cubicBezTo>
                  <a:pt x="18799" y="14619"/>
                  <a:pt x="19128" y="14744"/>
                  <a:pt x="18976" y="15007"/>
                </a:cubicBezTo>
                <a:cubicBezTo>
                  <a:pt x="18845" y="15233"/>
                  <a:pt x="18706" y="15127"/>
                  <a:pt x="18579" y="15032"/>
                </a:cubicBezTo>
                <a:cubicBezTo>
                  <a:pt x="18764" y="14885"/>
                  <a:pt x="18904" y="14962"/>
                  <a:pt x="19100" y="15131"/>
                </a:cubicBezTo>
                <a:cubicBezTo>
                  <a:pt x="19116" y="15147"/>
                  <a:pt x="19133" y="15164"/>
                  <a:pt x="19149" y="15180"/>
                </a:cubicBezTo>
              </a:path>
              <a:path w="9129" h="3970">
                <a:moveTo>
                  <a:pt x="19397" y="14808"/>
                </a:moveTo>
                <a:cubicBezTo>
                  <a:pt x="19402" y="14978"/>
                  <a:pt x="19410" y="15135"/>
                  <a:pt x="19422" y="15304"/>
                </a:cubicBezTo>
              </a:path>
              <a:path w="9129" h="3970">
                <a:moveTo>
                  <a:pt x="17611" y="15974"/>
                </a:moveTo>
                <a:cubicBezTo>
                  <a:pt x="17600" y="16055"/>
                  <a:pt x="17658" y="16051"/>
                  <a:pt x="17785" y="16148"/>
                </a:cubicBezTo>
                <a:cubicBezTo>
                  <a:pt x="17727" y="16437"/>
                  <a:pt x="17662" y="16504"/>
                  <a:pt x="17363" y="16545"/>
                </a:cubicBezTo>
                <a:cubicBezTo>
                  <a:pt x="17374" y="16370"/>
                  <a:pt x="17506" y="16229"/>
                  <a:pt x="17711" y="16371"/>
                </a:cubicBezTo>
                <a:cubicBezTo>
                  <a:pt x="17770" y="16450"/>
                  <a:pt x="17795" y="16459"/>
                  <a:pt x="17785" y="16520"/>
                </a:cubicBezTo>
              </a:path>
              <a:path w="9129" h="3970">
                <a:moveTo>
                  <a:pt x="18033" y="16024"/>
                </a:moveTo>
                <a:cubicBezTo>
                  <a:pt x="18055" y="16157"/>
                  <a:pt x="18078" y="16289"/>
                  <a:pt x="18107" y="16421"/>
                </a:cubicBezTo>
              </a:path>
              <a:path w="9129" h="3970">
                <a:moveTo>
                  <a:pt x="17165" y="16644"/>
                </a:moveTo>
                <a:cubicBezTo>
                  <a:pt x="17165" y="16467"/>
                  <a:pt x="17145" y="16298"/>
                  <a:pt x="17115" y="16123"/>
                </a:cubicBezTo>
                <a:cubicBezTo>
                  <a:pt x="17107" y="16082"/>
                  <a:pt x="17098" y="16040"/>
                  <a:pt x="17090" y="15999"/>
                </a:cubicBezTo>
                <a:cubicBezTo>
                  <a:pt x="17306" y="15977"/>
                  <a:pt x="17514" y="15974"/>
                  <a:pt x="17735" y="15974"/>
                </a:cubicBezTo>
                <a:cubicBezTo>
                  <a:pt x="17969" y="15974"/>
                  <a:pt x="18255" y="15912"/>
                  <a:pt x="18479" y="15974"/>
                </a:cubicBezTo>
              </a:path>
              <a:path w="9129" h="3970">
                <a:moveTo>
                  <a:pt x="16470" y="16197"/>
                </a:moveTo>
                <a:cubicBezTo>
                  <a:pt x="16503" y="16133"/>
                  <a:pt x="16523" y="16104"/>
                  <a:pt x="16570" y="16073"/>
                </a:cubicBezTo>
                <a:cubicBezTo>
                  <a:pt x="16706" y="16199"/>
                  <a:pt x="16784" y="16330"/>
                  <a:pt x="16619" y="16495"/>
                </a:cubicBezTo>
                <a:cubicBezTo>
                  <a:pt x="16489" y="16625"/>
                  <a:pt x="16422" y="16578"/>
                  <a:pt x="16321" y="16495"/>
                </a:cubicBezTo>
                <a:cubicBezTo>
                  <a:pt x="16429" y="16312"/>
                  <a:pt x="16530" y="16315"/>
                  <a:pt x="16694" y="16470"/>
                </a:cubicBezTo>
                <a:cubicBezTo>
                  <a:pt x="16746" y="16520"/>
                  <a:pt x="16774" y="16589"/>
                  <a:pt x="16818" y="16644"/>
                </a:cubicBezTo>
              </a:path>
              <a:path w="9129" h="3970">
                <a:moveTo>
                  <a:pt x="17587" y="15503"/>
                </a:moveTo>
                <a:cubicBezTo>
                  <a:pt x="17580" y="15454"/>
                  <a:pt x="17573" y="15446"/>
                  <a:pt x="17562" y="15404"/>
                </a:cubicBezTo>
              </a:path>
              <a:path w="9129" h="3970">
                <a:moveTo>
                  <a:pt x="17661" y="15602"/>
                </a:moveTo>
                <a:cubicBezTo>
                  <a:pt x="17661" y="15536"/>
                  <a:pt x="17661" y="15470"/>
                  <a:pt x="17661" y="15404"/>
                </a:cubicBezTo>
                <a:cubicBezTo>
                  <a:pt x="17656" y="15496"/>
                  <a:pt x="17675" y="15784"/>
                  <a:pt x="17611" y="15850"/>
                </a:cubicBezTo>
                <a:cubicBezTo>
                  <a:pt x="17611" y="15834"/>
                  <a:pt x="17611" y="15817"/>
                  <a:pt x="17611" y="15801"/>
                </a:cubicBezTo>
              </a:path>
              <a:path w="9129" h="3970">
                <a:moveTo>
                  <a:pt x="17611" y="16793"/>
                </a:moveTo>
                <a:lnTo>
                  <a:pt x="17611" y="16793"/>
                </a:lnTo>
              </a:path>
              <a:path w="9129" h="3970">
                <a:moveTo>
                  <a:pt x="17462" y="16768"/>
                </a:moveTo>
                <a:cubicBezTo>
                  <a:pt x="17608" y="16747"/>
                  <a:pt x="17631" y="16766"/>
                  <a:pt x="17760" y="16842"/>
                </a:cubicBezTo>
                <a:cubicBezTo>
                  <a:pt x="17701" y="17011"/>
                  <a:pt x="17614" y="17184"/>
                  <a:pt x="17388" y="17115"/>
                </a:cubicBezTo>
                <a:cubicBezTo>
                  <a:pt x="17380" y="17099"/>
                  <a:pt x="17371" y="17082"/>
                  <a:pt x="17363" y="17066"/>
                </a:cubicBezTo>
                <a:cubicBezTo>
                  <a:pt x="17397" y="16929"/>
                  <a:pt x="17463" y="16938"/>
                  <a:pt x="17587" y="16991"/>
                </a:cubicBezTo>
                <a:cubicBezTo>
                  <a:pt x="17669" y="17033"/>
                  <a:pt x="17694" y="17033"/>
                  <a:pt x="17711" y="17090"/>
                </a:cubicBezTo>
              </a:path>
              <a:path w="9129" h="3970">
                <a:moveTo>
                  <a:pt x="17165" y="17314"/>
                </a:moveTo>
                <a:cubicBezTo>
                  <a:pt x="17420" y="17303"/>
                  <a:pt x="17657" y="17244"/>
                  <a:pt x="17909" y="17214"/>
                </a:cubicBezTo>
                <a:cubicBezTo>
                  <a:pt x="17975" y="17214"/>
                  <a:pt x="17992" y="17214"/>
                  <a:pt x="18033" y="17214"/>
                </a:cubicBezTo>
              </a:path>
              <a:path w="9129" h="3970">
                <a:moveTo>
                  <a:pt x="17041" y="17140"/>
                </a:moveTo>
                <a:cubicBezTo>
                  <a:pt x="17108" y="17101"/>
                  <a:pt x="17137" y="17079"/>
                  <a:pt x="17214" y="17066"/>
                </a:cubicBezTo>
              </a:path>
              <a:path w="9129" h="3970">
                <a:moveTo>
                  <a:pt x="17835" y="17462"/>
                </a:moveTo>
                <a:cubicBezTo>
                  <a:pt x="17859" y="17386"/>
                  <a:pt x="17742" y="17471"/>
                  <a:pt x="17686" y="17487"/>
                </a:cubicBezTo>
                <a:cubicBezTo>
                  <a:pt x="17618" y="17507"/>
                  <a:pt x="17546" y="17656"/>
                  <a:pt x="17587" y="17735"/>
                </a:cubicBezTo>
                <a:cubicBezTo>
                  <a:pt x="17651" y="17858"/>
                  <a:pt x="17831" y="17810"/>
                  <a:pt x="17909" y="17735"/>
                </a:cubicBezTo>
                <a:cubicBezTo>
                  <a:pt x="18035" y="17614"/>
                  <a:pt x="17949" y="17581"/>
                  <a:pt x="17835" y="17512"/>
                </a:cubicBezTo>
              </a:path>
              <a:path w="9129" h="3970">
                <a:moveTo>
                  <a:pt x="18256" y="16644"/>
                </a:moveTo>
                <a:cubicBezTo>
                  <a:pt x="18236" y="16703"/>
                  <a:pt x="18218" y="17016"/>
                  <a:pt x="18207" y="17165"/>
                </a:cubicBezTo>
                <a:cubicBezTo>
                  <a:pt x="18207" y="17181"/>
                  <a:pt x="18207" y="17198"/>
                  <a:pt x="18207" y="17214"/>
                </a:cubicBezTo>
              </a:path>
              <a:path w="9129" h="3970">
                <a:moveTo>
                  <a:pt x="18182" y="17537"/>
                </a:moveTo>
                <a:cubicBezTo>
                  <a:pt x="18210" y="17509"/>
                  <a:pt x="18219" y="17495"/>
                  <a:pt x="18207" y="17462"/>
                </a:cubicBezTo>
                <a:cubicBezTo>
                  <a:pt x="18207" y="17537"/>
                  <a:pt x="18207" y="17611"/>
                  <a:pt x="18207" y="17686"/>
                </a:cubicBezTo>
              </a:path>
              <a:path w="9129" h="3970">
                <a:moveTo>
                  <a:pt x="18157" y="16917"/>
                </a:moveTo>
                <a:cubicBezTo>
                  <a:pt x="18127" y="16887"/>
                  <a:pt x="18116" y="16873"/>
                  <a:pt x="18107" y="16842"/>
                </a:cubicBezTo>
                <a:cubicBezTo>
                  <a:pt x="18208" y="16913"/>
                  <a:pt x="18275" y="16996"/>
                  <a:pt x="18355" y="17090"/>
                </a:cubicBezTo>
                <a:cubicBezTo>
                  <a:pt x="18418" y="17028"/>
                  <a:pt x="18436" y="17018"/>
                  <a:pt x="18455" y="16966"/>
                </a:cubicBezTo>
              </a:path>
              <a:path w="9129" h="3970">
                <a:moveTo>
                  <a:pt x="18107" y="15404"/>
                </a:moveTo>
                <a:cubicBezTo>
                  <a:pt x="17944" y="15371"/>
                  <a:pt x="17988" y="15508"/>
                  <a:pt x="17983" y="15652"/>
                </a:cubicBezTo>
                <a:cubicBezTo>
                  <a:pt x="17983" y="15668"/>
                  <a:pt x="17983" y="15685"/>
                  <a:pt x="17983" y="15701"/>
                </a:cubicBezTo>
                <a:cubicBezTo>
                  <a:pt x="18100" y="15692"/>
                  <a:pt x="18282" y="15655"/>
                  <a:pt x="18207" y="15478"/>
                </a:cubicBezTo>
                <a:cubicBezTo>
                  <a:pt x="18180" y="15415"/>
                  <a:pt x="18115" y="15390"/>
                  <a:pt x="18058" y="15379"/>
                </a:cubicBezTo>
              </a:path>
              <a:path w="9129" h="3970">
                <a:moveTo>
                  <a:pt x="18281" y="17785"/>
                </a:moveTo>
                <a:cubicBezTo>
                  <a:pt x="18205" y="17817"/>
                  <a:pt x="18194" y="17866"/>
                  <a:pt x="18182" y="17959"/>
                </a:cubicBezTo>
                <a:cubicBezTo>
                  <a:pt x="18246" y="18006"/>
                  <a:pt x="18359" y="17906"/>
                  <a:pt x="18355" y="17835"/>
                </a:cubicBezTo>
                <a:cubicBezTo>
                  <a:pt x="18306" y="17810"/>
                  <a:pt x="18289" y="17801"/>
                  <a:pt x="18256" y="17785"/>
                </a:cubicBezTo>
              </a:path>
              <a:path w="9129" h="3970">
                <a:moveTo>
                  <a:pt x="17388" y="18132"/>
                </a:moveTo>
                <a:cubicBezTo>
                  <a:pt x="17605" y="18069"/>
                  <a:pt x="17845" y="18121"/>
                  <a:pt x="18083" y="18107"/>
                </a:cubicBezTo>
                <a:cubicBezTo>
                  <a:pt x="18224" y="18099"/>
                  <a:pt x="18455" y="18022"/>
                  <a:pt x="18579" y="18058"/>
                </a:cubicBezTo>
              </a:path>
              <a:path w="9129" h="3970">
                <a:moveTo>
                  <a:pt x="18231" y="18306"/>
                </a:moveTo>
                <a:cubicBezTo>
                  <a:pt x="18231" y="18261"/>
                  <a:pt x="18228" y="18248"/>
                  <a:pt x="18256" y="18231"/>
                </a:cubicBezTo>
                <a:cubicBezTo>
                  <a:pt x="18301" y="18320"/>
                  <a:pt x="18321" y="18426"/>
                  <a:pt x="18331" y="18529"/>
                </a:cubicBezTo>
              </a:path>
              <a:path w="9129" h="3970">
                <a:moveTo>
                  <a:pt x="18529" y="16321"/>
                </a:moveTo>
                <a:cubicBezTo>
                  <a:pt x="18432" y="16302"/>
                  <a:pt x="18443" y="16280"/>
                  <a:pt x="18430" y="16371"/>
                </a:cubicBezTo>
                <a:cubicBezTo>
                  <a:pt x="18479" y="16371"/>
                  <a:pt x="18496" y="16371"/>
                  <a:pt x="18479" y="16321"/>
                </a:cubicBezTo>
              </a:path>
              <a:path w="9129" h="3970">
                <a:moveTo>
                  <a:pt x="18504" y="15726"/>
                </a:moveTo>
                <a:cubicBezTo>
                  <a:pt x="18504" y="15710"/>
                  <a:pt x="18504" y="15693"/>
                  <a:pt x="18504" y="15677"/>
                </a:cubicBezTo>
                <a:cubicBezTo>
                  <a:pt x="18482" y="15735"/>
                  <a:pt x="18568" y="15811"/>
                  <a:pt x="18554" y="15751"/>
                </a:cubicBezTo>
                <a:cubicBezTo>
                  <a:pt x="18508" y="15705"/>
                  <a:pt x="18496" y="15691"/>
                  <a:pt x="18455" y="15677"/>
                </a:cubicBezTo>
              </a:path>
              <a:path w="9129" h="3970">
                <a:moveTo>
                  <a:pt x="18926" y="15999"/>
                </a:moveTo>
                <a:cubicBezTo>
                  <a:pt x="18856" y="16037"/>
                  <a:pt x="18725" y="16052"/>
                  <a:pt x="18703" y="16148"/>
                </a:cubicBezTo>
                <a:cubicBezTo>
                  <a:pt x="18657" y="16351"/>
                  <a:pt x="18876" y="16485"/>
                  <a:pt x="19025" y="16321"/>
                </a:cubicBezTo>
                <a:cubicBezTo>
                  <a:pt x="19125" y="16211"/>
                  <a:pt x="19062" y="16136"/>
                  <a:pt x="19000" y="16049"/>
                </a:cubicBezTo>
              </a:path>
              <a:path w="9129" h="3970">
                <a:moveTo>
                  <a:pt x="18231" y="15974"/>
                </a:moveTo>
                <a:cubicBezTo>
                  <a:pt x="18194" y="16111"/>
                  <a:pt x="18402" y="16057"/>
                  <a:pt x="18504" y="16049"/>
                </a:cubicBezTo>
                <a:cubicBezTo>
                  <a:pt x="18852" y="16021"/>
                  <a:pt x="19197" y="15963"/>
                  <a:pt x="19546" y="15949"/>
                </a:cubicBezTo>
                <a:cubicBezTo>
                  <a:pt x="19685" y="15943"/>
                  <a:pt x="19828" y="15949"/>
                  <a:pt x="19968" y="15949"/>
                </a:cubicBezTo>
              </a:path>
              <a:path w="9129" h="3970">
                <a:moveTo>
                  <a:pt x="18926" y="16545"/>
                </a:moveTo>
                <a:cubicBezTo>
                  <a:pt x="18885" y="16464"/>
                  <a:pt x="18853" y="16836"/>
                  <a:pt x="18852" y="16842"/>
                </a:cubicBezTo>
                <a:cubicBezTo>
                  <a:pt x="18819" y="17086"/>
                  <a:pt x="18765" y="17320"/>
                  <a:pt x="18728" y="17562"/>
                </a:cubicBezTo>
                <a:cubicBezTo>
                  <a:pt x="18722" y="17601"/>
                  <a:pt x="18728" y="17646"/>
                  <a:pt x="18728" y="17686"/>
                </a:cubicBezTo>
              </a:path>
              <a:path w="9129" h="3970">
                <a:moveTo>
                  <a:pt x="18678" y="18107"/>
                </a:moveTo>
                <a:cubicBezTo>
                  <a:pt x="18598" y="18127"/>
                  <a:pt x="18532" y="18177"/>
                  <a:pt x="18554" y="18281"/>
                </a:cubicBezTo>
                <a:cubicBezTo>
                  <a:pt x="18579" y="18398"/>
                  <a:pt x="18789" y="18324"/>
                  <a:pt x="18852" y="18281"/>
                </a:cubicBezTo>
                <a:cubicBezTo>
                  <a:pt x="18922" y="18234"/>
                  <a:pt x="18938" y="18090"/>
                  <a:pt x="18852" y="18058"/>
                </a:cubicBezTo>
                <a:cubicBezTo>
                  <a:pt x="18802" y="18058"/>
                  <a:pt x="18785" y="18058"/>
                  <a:pt x="18752" y="18058"/>
                </a:cubicBezTo>
              </a:path>
              <a:path w="9129" h="3970">
                <a:moveTo>
                  <a:pt x="19075" y="15354"/>
                </a:moveTo>
                <a:cubicBezTo>
                  <a:pt x="19057" y="15245"/>
                  <a:pt x="18945" y="15340"/>
                  <a:pt x="18852" y="15354"/>
                </a:cubicBezTo>
                <a:cubicBezTo>
                  <a:pt x="18745" y="15371"/>
                  <a:pt x="18777" y="15482"/>
                  <a:pt x="18777" y="15577"/>
                </a:cubicBezTo>
                <a:cubicBezTo>
                  <a:pt x="18891" y="15566"/>
                  <a:pt x="19044" y="15497"/>
                  <a:pt x="19124" y="15627"/>
                </a:cubicBezTo>
                <a:cubicBezTo>
                  <a:pt x="19195" y="15742"/>
                  <a:pt x="19099" y="15944"/>
                  <a:pt x="18951" y="15900"/>
                </a:cubicBezTo>
                <a:cubicBezTo>
                  <a:pt x="18926" y="15883"/>
                  <a:pt x="18901" y="15867"/>
                  <a:pt x="18876" y="15850"/>
                </a:cubicBezTo>
              </a:path>
              <a:path w="9129" h="3970">
                <a:moveTo>
                  <a:pt x="19025" y="18430"/>
                </a:moveTo>
                <a:cubicBezTo>
                  <a:pt x="19025" y="18488"/>
                  <a:pt x="19025" y="18513"/>
                  <a:pt x="19025" y="18554"/>
                </a:cubicBezTo>
              </a:path>
              <a:path w="9129" h="3970">
                <a:moveTo>
                  <a:pt x="19273" y="18157"/>
                </a:moveTo>
                <a:cubicBezTo>
                  <a:pt x="19228" y="18274"/>
                  <a:pt x="19216" y="18310"/>
                  <a:pt x="19224" y="18430"/>
                </a:cubicBezTo>
                <a:cubicBezTo>
                  <a:pt x="19280" y="18404"/>
                  <a:pt x="19431" y="18346"/>
                  <a:pt x="19348" y="18256"/>
                </a:cubicBezTo>
                <a:cubicBezTo>
                  <a:pt x="19331" y="18248"/>
                  <a:pt x="19315" y="18239"/>
                  <a:pt x="19298" y="18231"/>
                </a:cubicBezTo>
              </a:path>
              <a:path w="9129" h="3970">
                <a:moveTo>
                  <a:pt x="19695" y="17983"/>
                </a:moveTo>
                <a:cubicBezTo>
                  <a:pt x="19594" y="18171"/>
                  <a:pt x="19483" y="18339"/>
                  <a:pt x="19348" y="18504"/>
                </a:cubicBezTo>
                <a:cubicBezTo>
                  <a:pt x="19340" y="18512"/>
                  <a:pt x="19331" y="18521"/>
                  <a:pt x="19323" y="18529"/>
                </a:cubicBezTo>
              </a:path>
              <a:path w="9129" h="3970">
                <a:moveTo>
                  <a:pt x="19943" y="18256"/>
                </a:moveTo>
                <a:cubicBezTo>
                  <a:pt x="19879" y="18386"/>
                  <a:pt x="19859" y="18415"/>
                  <a:pt x="19844" y="18504"/>
                </a:cubicBezTo>
                <a:cubicBezTo>
                  <a:pt x="19926" y="18492"/>
                  <a:pt x="20110" y="18457"/>
                  <a:pt x="20092" y="18331"/>
                </a:cubicBezTo>
                <a:cubicBezTo>
                  <a:pt x="20046" y="18285"/>
                  <a:pt x="20034" y="18270"/>
                  <a:pt x="19993" y="18256"/>
                </a:cubicBezTo>
              </a:path>
              <a:path w="9129" h="3970">
                <a:moveTo>
                  <a:pt x="20737" y="16470"/>
                </a:moveTo>
                <a:cubicBezTo>
                  <a:pt x="20737" y="16321"/>
                  <a:pt x="20698" y="16718"/>
                  <a:pt x="20687" y="16867"/>
                </a:cubicBezTo>
                <a:cubicBezTo>
                  <a:pt x="20687" y="16900"/>
                  <a:pt x="20687" y="16933"/>
                  <a:pt x="20687" y="16966"/>
                </a:cubicBezTo>
              </a:path>
              <a:path w="9129" h="3970">
                <a:moveTo>
                  <a:pt x="20762" y="16446"/>
                </a:moveTo>
                <a:cubicBezTo>
                  <a:pt x="20933" y="16586"/>
                  <a:pt x="20985" y="16764"/>
                  <a:pt x="21109" y="16942"/>
                </a:cubicBezTo>
                <a:cubicBezTo>
                  <a:pt x="21125" y="16958"/>
                  <a:pt x="21142" y="16975"/>
                  <a:pt x="21158" y="16991"/>
                </a:cubicBezTo>
                <a:cubicBezTo>
                  <a:pt x="21219" y="16778"/>
                  <a:pt x="21190" y="16662"/>
                  <a:pt x="21134" y="16446"/>
                </a:cubicBezTo>
              </a:path>
              <a:path w="9129" h="3970">
                <a:moveTo>
                  <a:pt x="21332" y="16743"/>
                </a:moveTo>
                <a:cubicBezTo>
                  <a:pt x="21412" y="16713"/>
                  <a:pt x="21496" y="16674"/>
                  <a:pt x="21580" y="16644"/>
                </a:cubicBezTo>
              </a:path>
              <a:path w="9129" h="3970">
                <a:moveTo>
                  <a:pt x="21307" y="16892"/>
                </a:moveTo>
                <a:cubicBezTo>
                  <a:pt x="21381" y="16873"/>
                  <a:pt x="21455" y="16853"/>
                  <a:pt x="21530" y="16842"/>
                </a:cubicBezTo>
              </a:path>
              <a:path w="9129" h="3970">
                <a:moveTo>
                  <a:pt x="22002" y="16520"/>
                </a:moveTo>
                <a:cubicBezTo>
                  <a:pt x="21936" y="16629"/>
                  <a:pt x="22013" y="16793"/>
                  <a:pt x="22027" y="16917"/>
                </a:cubicBezTo>
                <a:cubicBezTo>
                  <a:pt x="22027" y="16966"/>
                  <a:pt x="22027" y="16983"/>
                  <a:pt x="22027" y="17016"/>
                </a:cubicBezTo>
              </a:path>
              <a:path w="9129" h="3970">
                <a:moveTo>
                  <a:pt x="22349" y="16446"/>
                </a:moveTo>
                <a:cubicBezTo>
                  <a:pt x="22234" y="16532"/>
                  <a:pt x="22098" y="16744"/>
                  <a:pt x="22175" y="16917"/>
                </a:cubicBezTo>
                <a:cubicBezTo>
                  <a:pt x="22200" y="16933"/>
                  <a:pt x="22225" y="16950"/>
                  <a:pt x="22250" y="16966"/>
                </a:cubicBezTo>
                <a:cubicBezTo>
                  <a:pt x="22414" y="16889"/>
                  <a:pt x="22603" y="16810"/>
                  <a:pt x="22473" y="16594"/>
                </a:cubicBezTo>
                <a:cubicBezTo>
                  <a:pt x="22383" y="16504"/>
                  <a:pt x="22362" y="16474"/>
                  <a:pt x="22275" y="16470"/>
                </a:cubicBezTo>
              </a:path>
              <a:path w="9129" h="3970">
                <a:moveTo>
                  <a:pt x="22721" y="16867"/>
                </a:moveTo>
                <a:cubicBezTo>
                  <a:pt x="22721" y="16884"/>
                  <a:pt x="22721" y="16900"/>
                  <a:pt x="22721" y="16917"/>
                </a:cubicBezTo>
              </a:path>
              <a:path w="9129" h="3970">
                <a:moveTo>
                  <a:pt x="22969" y="16446"/>
                </a:moveTo>
                <a:cubicBezTo>
                  <a:pt x="22977" y="16429"/>
                  <a:pt x="22986" y="16413"/>
                  <a:pt x="22994" y="16396"/>
                </a:cubicBezTo>
                <a:cubicBezTo>
                  <a:pt x="22897" y="16377"/>
                  <a:pt x="22771" y="16369"/>
                  <a:pt x="22746" y="16495"/>
                </a:cubicBezTo>
                <a:cubicBezTo>
                  <a:pt x="22736" y="16544"/>
                  <a:pt x="22746" y="16616"/>
                  <a:pt x="22746" y="16669"/>
                </a:cubicBezTo>
                <a:cubicBezTo>
                  <a:pt x="22835" y="16628"/>
                  <a:pt x="22938" y="16538"/>
                  <a:pt x="23044" y="16619"/>
                </a:cubicBezTo>
                <a:cubicBezTo>
                  <a:pt x="23180" y="16723"/>
                  <a:pt x="23100" y="16892"/>
                  <a:pt x="22944" y="16892"/>
                </a:cubicBezTo>
                <a:cubicBezTo>
                  <a:pt x="22903" y="16884"/>
                  <a:pt x="22861" y="16875"/>
                  <a:pt x="22820" y="16867"/>
                </a:cubicBezTo>
              </a:path>
              <a:path w="9129" h="3970">
                <a:moveTo>
                  <a:pt x="22671" y="16991"/>
                </a:moveTo>
                <a:cubicBezTo>
                  <a:pt x="22671" y="16895"/>
                  <a:pt x="22685" y="16867"/>
                  <a:pt x="22597" y="16842"/>
                </a:cubicBezTo>
                <a:cubicBezTo>
                  <a:pt x="22564" y="16897"/>
                  <a:pt x="22513" y="17105"/>
                  <a:pt x="22671" y="17016"/>
                </a:cubicBezTo>
                <a:cubicBezTo>
                  <a:pt x="22755" y="16969"/>
                  <a:pt x="22695" y="16885"/>
                  <a:pt x="22671" y="16842"/>
                </a:cubicBezTo>
                <a:cubicBezTo>
                  <a:pt x="22643" y="16846"/>
                  <a:pt x="22505" y="16907"/>
                  <a:pt x="22572" y="16966"/>
                </a:cubicBezTo>
                <a:cubicBezTo>
                  <a:pt x="22617" y="16966"/>
                  <a:pt x="22630" y="16970"/>
                  <a:pt x="22647" y="16942"/>
                </a:cubicBezTo>
              </a:path>
              <a:path w="9129" h="3970">
                <a:moveTo>
                  <a:pt x="23614" y="16570"/>
                </a:moveTo>
                <a:cubicBezTo>
                  <a:pt x="23619" y="16662"/>
                  <a:pt x="23631" y="16750"/>
                  <a:pt x="23639" y="16842"/>
                </a:cubicBezTo>
                <a:cubicBezTo>
                  <a:pt x="23639" y="16742"/>
                  <a:pt x="23655" y="16654"/>
                  <a:pt x="23713" y="16570"/>
                </a:cubicBezTo>
                <a:cubicBezTo>
                  <a:pt x="23750" y="16517"/>
                  <a:pt x="23807" y="16498"/>
                  <a:pt x="23862" y="16470"/>
                </a:cubicBezTo>
                <a:cubicBezTo>
                  <a:pt x="23951" y="16543"/>
                  <a:pt x="24055" y="16633"/>
                  <a:pt x="24036" y="16768"/>
                </a:cubicBezTo>
                <a:cubicBezTo>
                  <a:pt x="24028" y="16785"/>
                  <a:pt x="24019" y="16801"/>
                  <a:pt x="24011" y="16818"/>
                </a:cubicBezTo>
                <a:cubicBezTo>
                  <a:pt x="24001" y="16704"/>
                  <a:pt x="23988" y="16652"/>
                  <a:pt x="24036" y="16545"/>
                </a:cubicBezTo>
                <a:cubicBezTo>
                  <a:pt x="24164" y="16513"/>
                  <a:pt x="24087" y="16661"/>
                  <a:pt x="24061" y="16793"/>
                </a:cubicBezTo>
                <a:cubicBezTo>
                  <a:pt x="24041" y="16870"/>
                  <a:pt x="24049" y="16888"/>
                  <a:pt x="24011" y="16917"/>
                </a:cubicBezTo>
              </a:path>
              <a:path w="9129" h="3970">
                <a:moveTo>
                  <a:pt x="24234" y="16570"/>
                </a:moveTo>
                <a:cubicBezTo>
                  <a:pt x="24170" y="16570"/>
                  <a:pt x="24170" y="16571"/>
                  <a:pt x="24110" y="16545"/>
                </a:cubicBezTo>
                <a:cubicBezTo>
                  <a:pt x="24265" y="16521"/>
                  <a:pt x="24329" y="16554"/>
                  <a:pt x="24383" y="16718"/>
                </a:cubicBezTo>
                <a:cubicBezTo>
                  <a:pt x="24417" y="16821"/>
                  <a:pt x="24414" y="16874"/>
                  <a:pt x="24383" y="16966"/>
                </a:cubicBezTo>
              </a:path>
              <a:path w="9129" h="3970">
                <a:moveTo>
                  <a:pt x="20290" y="15949"/>
                </a:moveTo>
                <a:cubicBezTo>
                  <a:pt x="20335" y="16270"/>
                  <a:pt x="20361" y="16592"/>
                  <a:pt x="20389" y="16917"/>
                </a:cubicBezTo>
                <a:cubicBezTo>
                  <a:pt x="20404" y="17088"/>
                  <a:pt x="20340" y="17481"/>
                  <a:pt x="20513" y="17537"/>
                </a:cubicBezTo>
                <a:cubicBezTo>
                  <a:pt x="20705" y="17599"/>
                  <a:pt x="20963" y="17555"/>
                  <a:pt x="21158" y="17537"/>
                </a:cubicBezTo>
                <a:cubicBezTo>
                  <a:pt x="21472" y="17508"/>
                  <a:pt x="21787" y="17512"/>
                  <a:pt x="22101" y="17487"/>
                </a:cubicBezTo>
                <a:cubicBezTo>
                  <a:pt x="22325" y="17469"/>
                  <a:pt x="22549" y="17430"/>
                  <a:pt x="22771" y="17413"/>
                </a:cubicBezTo>
                <a:cubicBezTo>
                  <a:pt x="22954" y="17399"/>
                  <a:pt x="23133" y="17365"/>
                  <a:pt x="23316" y="17338"/>
                </a:cubicBezTo>
                <a:cubicBezTo>
                  <a:pt x="23563" y="17302"/>
                  <a:pt x="23818" y="17314"/>
                  <a:pt x="24061" y="17264"/>
                </a:cubicBezTo>
                <a:cubicBezTo>
                  <a:pt x="24174" y="17241"/>
                  <a:pt x="24264" y="17203"/>
                  <a:pt x="24383" y="17214"/>
                </a:cubicBezTo>
                <a:cubicBezTo>
                  <a:pt x="24450" y="17220"/>
                  <a:pt x="24524" y="17264"/>
                  <a:pt x="24581" y="17289"/>
                </a:cubicBezTo>
                <a:cubicBezTo>
                  <a:pt x="24606" y="17218"/>
                  <a:pt x="24617" y="17161"/>
                  <a:pt x="24631" y="17090"/>
                </a:cubicBezTo>
                <a:cubicBezTo>
                  <a:pt x="24647" y="17010"/>
                  <a:pt x="24665" y="16924"/>
                  <a:pt x="24681" y="16842"/>
                </a:cubicBezTo>
                <a:cubicBezTo>
                  <a:pt x="24695" y="16770"/>
                  <a:pt x="24732" y="16667"/>
                  <a:pt x="24730" y="16594"/>
                </a:cubicBezTo>
                <a:cubicBezTo>
                  <a:pt x="24729" y="16530"/>
                  <a:pt x="24702" y="16483"/>
                  <a:pt x="24705" y="16421"/>
                </a:cubicBezTo>
                <a:cubicBezTo>
                  <a:pt x="24707" y="16377"/>
                  <a:pt x="24721" y="16278"/>
                  <a:pt x="24730" y="16222"/>
                </a:cubicBezTo>
                <a:cubicBezTo>
                  <a:pt x="24738" y="16167"/>
                  <a:pt x="24748" y="16127"/>
                  <a:pt x="24755" y="16073"/>
                </a:cubicBezTo>
                <a:cubicBezTo>
                  <a:pt x="24691" y="16065"/>
                  <a:pt x="24610" y="16050"/>
                  <a:pt x="24532" y="16049"/>
                </a:cubicBezTo>
                <a:cubicBezTo>
                  <a:pt x="24388" y="16046"/>
                  <a:pt x="24249" y="16064"/>
                  <a:pt x="24110" y="16073"/>
                </a:cubicBezTo>
                <a:cubicBezTo>
                  <a:pt x="23990" y="16081"/>
                  <a:pt x="23904" y="16115"/>
                  <a:pt x="23788" y="16148"/>
                </a:cubicBezTo>
                <a:cubicBezTo>
                  <a:pt x="23486" y="16233"/>
                  <a:pt x="23157" y="16291"/>
                  <a:pt x="22845" y="16321"/>
                </a:cubicBezTo>
                <a:cubicBezTo>
                  <a:pt x="22695" y="16335"/>
                  <a:pt x="22547" y="16382"/>
                  <a:pt x="22399" y="16396"/>
                </a:cubicBezTo>
                <a:cubicBezTo>
                  <a:pt x="22199" y="16415"/>
                  <a:pt x="21997" y="16380"/>
                  <a:pt x="21803" y="16371"/>
                </a:cubicBezTo>
                <a:cubicBezTo>
                  <a:pt x="21613" y="16362"/>
                  <a:pt x="21445" y="16405"/>
                  <a:pt x="21258" y="16421"/>
                </a:cubicBezTo>
                <a:cubicBezTo>
                  <a:pt x="21039" y="16439"/>
                  <a:pt x="20801" y="16431"/>
                  <a:pt x="20588" y="16446"/>
                </a:cubicBezTo>
                <a:cubicBezTo>
                  <a:pt x="20513" y="16451"/>
                  <a:pt x="20460" y="16456"/>
                  <a:pt x="20389" y="16470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33760" y="5384880"/>
            <a:ext cx="581040" cy="357120"/>
          </a:xfrm>
          <a:custGeom>
            <a:avLst/>
            <a:gdLst/>
            <a:ahLst/>
            <a:rect l="l" t="t" r="r" b="b"/>
            <a:pathLst>
              <a:path w="1614" h="993">
                <a:moveTo>
                  <a:pt x="7689" y="15056"/>
                </a:moveTo>
                <a:cubicBezTo>
                  <a:pt x="7646" y="15105"/>
                  <a:pt x="7780" y="14968"/>
                  <a:pt x="7838" y="14957"/>
                </a:cubicBezTo>
                <a:cubicBezTo>
                  <a:pt x="7863" y="14957"/>
                  <a:pt x="7888" y="14957"/>
                  <a:pt x="7913" y="14957"/>
                </a:cubicBezTo>
                <a:cubicBezTo>
                  <a:pt x="7926" y="15173"/>
                  <a:pt x="7827" y="15324"/>
                  <a:pt x="7689" y="15503"/>
                </a:cubicBezTo>
                <a:cubicBezTo>
                  <a:pt x="7571" y="15657"/>
                  <a:pt x="7446" y="15806"/>
                  <a:pt x="7317" y="15949"/>
                </a:cubicBezTo>
                <a:cubicBezTo>
                  <a:pt x="7483" y="15805"/>
                  <a:pt x="7509" y="15783"/>
                  <a:pt x="7714" y="15875"/>
                </a:cubicBezTo>
                <a:cubicBezTo>
                  <a:pt x="7814" y="15920"/>
                  <a:pt x="7855" y="15925"/>
                  <a:pt x="7962" y="15925"/>
                </a:cubicBezTo>
              </a:path>
              <a:path w="1614" h="993">
                <a:moveTo>
                  <a:pt x="8260" y="15627"/>
                </a:moveTo>
                <a:cubicBezTo>
                  <a:pt x="8240" y="15707"/>
                  <a:pt x="8210" y="15793"/>
                  <a:pt x="8186" y="15875"/>
                </a:cubicBezTo>
              </a:path>
              <a:path w="1614" h="993">
                <a:moveTo>
                  <a:pt x="8161" y="15429"/>
                </a:moveTo>
                <a:lnTo>
                  <a:pt x="8161" y="15429"/>
                </a:lnTo>
              </a:path>
              <a:path w="1614" h="993">
                <a:moveTo>
                  <a:pt x="8483" y="15751"/>
                </a:moveTo>
                <a:cubicBezTo>
                  <a:pt x="8503" y="15850"/>
                  <a:pt x="8511" y="15866"/>
                  <a:pt x="8508" y="15925"/>
                </a:cubicBezTo>
                <a:cubicBezTo>
                  <a:pt x="8483" y="15825"/>
                  <a:pt x="8518" y="15585"/>
                  <a:pt x="8682" y="15577"/>
                </a:cubicBezTo>
                <a:cubicBezTo>
                  <a:pt x="8873" y="15568"/>
                  <a:pt x="8893" y="15779"/>
                  <a:pt x="8930" y="15900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Objective:  Students will use ratio/proportion to create scale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drawings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3.) A scale on a map is 1.25 in: 7 mi. If the hospital and train station are 28 miles apart, how far apart are they on the map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4.) A scale drawing of a room has a scale of 3 in: 2 ft. If the height of a wall is 9 ft, what is the height of the wall on the drawing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5.) A scale drawing of a building has a scale of 2 in:15 ft. If a building is 100ft tall, how tall would it be in the drawing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6160" y="2581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58" y="7169"/>
                </a:moveTo>
                <a:lnTo>
                  <a:pt x="2158" y="7169"/>
                </a:ln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36960" y="1204920"/>
            <a:ext cx="187200" cy="196920"/>
          </a:xfrm>
          <a:custGeom>
            <a:avLst/>
            <a:gdLst/>
            <a:ahLst/>
            <a:rect l="l" t="t" r="r" b="b"/>
            <a:pathLst>
              <a:path w="521" h="546">
                <a:moveTo>
                  <a:pt x="8434" y="3721"/>
                </a:moveTo>
                <a:cubicBezTo>
                  <a:pt x="8505" y="3781"/>
                  <a:pt x="8575" y="3829"/>
                  <a:pt x="8632" y="3894"/>
                </a:cubicBezTo>
              </a:path>
              <a:path w="521" h="546">
                <a:moveTo>
                  <a:pt x="8632" y="3597"/>
                </a:moveTo>
                <a:cubicBezTo>
                  <a:pt x="8582" y="3696"/>
                  <a:pt x="8549" y="3764"/>
                  <a:pt x="8533" y="3870"/>
                </a:cubicBezTo>
              </a:path>
              <a:path w="521" h="546">
                <a:moveTo>
                  <a:pt x="8830" y="3522"/>
                </a:moveTo>
                <a:cubicBezTo>
                  <a:pt x="8830" y="3574"/>
                  <a:pt x="8829" y="3592"/>
                  <a:pt x="8806" y="3621"/>
                </a:cubicBezTo>
                <a:cubicBezTo>
                  <a:pt x="8876" y="3629"/>
                  <a:pt x="8880" y="3622"/>
                  <a:pt x="8954" y="3597"/>
                </a:cubicBezTo>
              </a:path>
              <a:path w="521" h="546">
                <a:moveTo>
                  <a:pt x="8954" y="3349"/>
                </a:moveTo>
                <a:cubicBezTo>
                  <a:pt x="8939" y="3489"/>
                  <a:pt x="8930" y="3626"/>
                  <a:pt x="8930" y="3770"/>
                </a:cubicBezTo>
                <a:cubicBezTo>
                  <a:pt x="8930" y="3778"/>
                  <a:pt x="8930" y="3787"/>
                  <a:pt x="8930" y="379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7080" y="1438200"/>
            <a:ext cx="34920" cy="241200"/>
          </a:xfrm>
          <a:custGeom>
            <a:avLst/>
            <a:gdLst/>
            <a:ahLst/>
            <a:rect l="l" t="t" r="r" b="b"/>
            <a:pathLst>
              <a:path w="100" h="670">
                <a:moveTo>
                  <a:pt x="6152" y="4018"/>
                </a:moveTo>
                <a:cubicBezTo>
                  <a:pt x="6053" y="4039"/>
                  <a:pt x="6163" y="4299"/>
                  <a:pt x="6176" y="4440"/>
                </a:cubicBezTo>
                <a:cubicBezTo>
                  <a:pt x="6176" y="4574"/>
                  <a:pt x="6158" y="4597"/>
                  <a:pt x="6201" y="4663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28920" y="1428840"/>
            <a:ext cx="785880" cy="223920"/>
          </a:xfrm>
          <a:custGeom>
            <a:avLst/>
            <a:gdLst/>
            <a:ahLst/>
            <a:rect l="l" t="t" r="r" b="b"/>
            <a:pathLst>
              <a:path w="2184" h="621">
                <a:moveTo>
                  <a:pt x="6747" y="4490"/>
                </a:moveTo>
                <a:lnTo>
                  <a:pt x="6747" y="4490"/>
                </a:lnTo>
              </a:path>
              <a:path w="2184" h="621">
                <a:moveTo>
                  <a:pt x="6921" y="4093"/>
                </a:moveTo>
                <a:cubicBezTo>
                  <a:pt x="7093" y="4026"/>
                  <a:pt x="7219" y="4122"/>
                  <a:pt x="7169" y="4341"/>
                </a:cubicBezTo>
                <a:cubicBezTo>
                  <a:pt x="7134" y="4494"/>
                  <a:pt x="7082" y="4527"/>
                  <a:pt x="6970" y="4514"/>
                </a:cubicBezTo>
                <a:cubicBezTo>
                  <a:pt x="7012" y="4404"/>
                  <a:pt x="7097" y="4387"/>
                  <a:pt x="7218" y="4440"/>
                </a:cubicBezTo>
                <a:cubicBezTo>
                  <a:pt x="7283" y="4483"/>
                  <a:pt x="7303" y="4489"/>
                  <a:pt x="7317" y="4539"/>
                </a:cubicBezTo>
              </a:path>
              <a:path w="2184" h="621">
                <a:moveTo>
                  <a:pt x="7739" y="3969"/>
                </a:moveTo>
                <a:cubicBezTo>
                  <a:pt x="7674" y="3969"/>
                  <a:pt x="7550" y="3936"/>
                  <a:pt x="7516" y="4018"/>
                </a:cubicBezTo>
                <a:cubicBezTo>
                  <a:pt x="7475" y="4117"/>
                  <a:pt x="7454" y="4235"/>
                  <a:pt x="7441" y="4341"/>
                </a:cubicBezTo>
                <a:cubicBezTo>
                  <a:pt x="7554" y="4266"/>
                  <a:pt x="7592" y="4192"/>
                  <a:pt x="7739" y="4242"/>
                </a:cubicBezTo>
                <a:cubicBezTo>
                  <a:pt x="7927" y="4306"/>
                  <a:pt x="7927" y="4470"/>
                  <a:pt x="7739" y="4539"/>
                </a:cubicBezTo>
                <a:cubicBezTo>
                  <a:pt x="7603" y="4562"/>
                  <a:pt x="7565" y="4576"/>
                  <a:pt x="7491" y="4514"/>
                </a:cubicBezTo>
              </a:path>
              <a:path w="2184" h="621">
                <a:moveTo>
                  <a:pt x="8285" y="4316"/>
                </a:moveTo>
                <a:cubicBezTo>
                  <a:pt x="8305" y="4433"/>
                  <a:pt x="8299" y="4454"/>
                  <a:pt x="8334" y="4514"/>
                </a:cubicBezTo>
              </a:path>
              <a:path w="2184" h="621">
                <a:moveTo>
                  <a:pt x="8161" y="4068"/>
                </a:moveTo>
                <a:lnTo>
                  <a:pt x="8161" y="4068"/>
                </a:lnTo>
              </a:path>
              <a:path w="2184" h="621">
                <a:moveTo>
                  <a:pt x="8458" y="4366"/>
                </a:moveTo>
                <a:cubicBezTo>
                  <a:pt x="8458" y="4410"/>
                  <a:pt x="8455" y="4424"/>
                  <a:pt x="8483" y="4440"/>
                </a:cubicBezTo>
                <a:cubicBezTo>
                  <a:pt x="8510" y="4359"/>
                  <a:pt x="8565" y="4172"/>
                  <a:pt x="8706" y="4217"/>
                </a:cubicBezTo>
                <a:cubicBezTo>
                  <a:pt x="8869" y="4269"/>
                  <a:pt x="8917" y="4444"/>
                  <a:pt x="8930" y="4589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7760" y="1312920"/>
            <a:ext cx="196560" cy="206280"/>
          </a:xfrm>
          <a:custGeom>
            <a:avLst/>
            <a:gdLst/>
            <a:ahLst/>
            <a:rect l="l" t="t" r="r" b="b"/>
            <a:pathLst>
              <a:path w="546" h="572">
                <a:moveTo>
                  <a:pt x="11063" y="3646"/>
                </a:moveTo>
                <a:cubicBezTo>
                  <a:pt x="10956" y="3740"/>
                  <a:pt x="10905" y="3734"/>
                  <a:pt x="10765" y="3721"/>
                </a:cubicBezTo>
                <a:cubicBezTo>
                  <a:pt x="10693" y="3714"/>
                  <a:pt x="10718" y="3838"/>
                  <a:pt x="10716" y="3870"/>
                </a:cubicBezTo>
                <a:cubicBezTo>
                  <a:pt x="10844" y="3998"/>
                  <a:pt x="10958" y="3783"/>
                  <a:pt x="11137" y="3795"/>
                </a:cubicBezTo>
                <a:cubicBezTo>
                  <a:pt x="11170" y="3812"/>
                  <a:pt x="11204" y="3828"/>
                  <a:pt x="11237" y="3845"/>
                </a:cubicBezTo>
                <a:cubicBezTo>
                  <a:pt x="11236" y="4166"/>
                  <a:pt x="11059" y="4158"/>
                  <a:pt x="10765" y="4217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78000" y="1589040"/>
            <a:ext cx="2349720" cy="546120"/>
          </a:xfrm>
          <a:custGeom>
            <a:avLst/>
            <a:gdLst/>
            <a:ahLst/>
            <a:rect l="l" t="t" r="r" b="b"/>
            <a:pathLst>
              <a:path w="6525" h="1514">
                <a:moveTo>
                  <a:pt x="6052" y="4961"/>
                </a:moveTo>
                <a:cubicBezTo>
                  <a:pt x="6316" y="4815"/>
                  <a:pt x="6667" y="4810"/>
                  <a:pt x="6970" y="4787"/>
                </a:cubicBezTo>
                <a:cubicBezTo>
                  <a:pt x="7632" y="4737"/>
                  <a:pt x="8290" y="4694"/>
                  <a:pt x="8954" y="4688"/>
                </a:cubicBezTo>
                <a:cubicBezTo>
                  <a:pt x="9012" y="4688"/>
                  <a:pt x="9070" y="4688"/>
                  <a:pt x="9128" y="4688"/>
                </a:cubicBezTo>
              </a:path>
              <a:path w="6525" h="1514">
                <a:moveTo>
                  <a:pt x="6598" y="5135"/>
                </a:moveTo>
                <a:cubicBezTo>
                  <a:pt x="6788" y="5128"/>
                  <a:pt x="6937" y="5109"/>
                  <a:pt x="7119" y="5060"/>
                </a:cubicBezTo>
                <a:cubicBezTo>
                  <a:pt x="7095" y="5235"/>
                  <a:pt x="7069" y="5404"/>
                  <a:pt x="7069" y="5581"/>
                </a:cubicBezTo>
              </a:path>
              <a:path w="6525" h="1514">
                <a:moveTo>
                  <a:pt x="7565" y="5234"/>
                </a:moveTo>
                <a:cubicBezTo>
                  <a:pt x="7587" y="5342"/>
                  <a:pt x="7590" y="5368"/>
                  <a:pt x="7615" y="5432"/>
                </a:cubicBezTo>
                <a:cubicBezTo>
                  <a:pt x="7615" y="5312"/>
                  <a:pt x="7617" y="5116"/>
                  <a:pt x="7813" y="5234"/>
                </a:cubicBezTo>
                <a:cubicBezTo>
                  <a:pt x="7926" y="5346"/>
                  <a:pt x="7957" y="5373"/>
                  <a:pt x="8012" y="5457"/>
                </a:cubicBezTo>
                <a:cubicBezTo>
                  <a:pt x="8001" y="5355"/>
                  <a:pt x="7976" y="5065"/>
                  <a:pt x="8186" y="5184"/>
                </a:cubicBezTo>
                <a:cubicBezTo>
                  <a:pt x="8309" y="5254"/>
                  <a:pt x="8317" y="5363"/>
                  <a:pt x="8334" y="5482"/>
                </a:cubicBezTo>
              </a:path>
              <a:path w="6525" h="1514">
                <a:moveTo>
                  <a:pt x="9451" y="4638"/>
                </a:moveTo>
                <a:cubicBezTo>
                  <a:pt x="9601" y="4665"/>
                  <a:pt x="9721" y="4649"/>
                  <a:pt x="9872" y="4638"/>
                </a:cubicBezTo>
              </a:path>
              <a:path w="6525" h="1514">
                <a:moveTo>
                  <a:pt x="9550" y="4837"/>
                </a:moveTo>
                <a:cubicBezTo>
                  <a:pt x="9674" y="4837"/>
                  <a:pt x="9798" y="4837"/>
                  <a:pt x="9922" y="4837"/>
                </a:cubicBezTo>
              </a:path>
              <a:path w="6525" h="1514">
                <a:moveTo>
                  <a:pt x="10592" y="4688"/>
                </a:moveTo>
                <a:cubicBezTo>
                  <a:pt x="10914" y="4665"/>
                  <a:pt x="11236" y="4634"/>
                  <a:pt x="11559" y="4614"/>
                </a:cubicBezTo>
                <a:cubicBezTo>
                  <a:pt x="11867" y="4595"/>
                  <a:pt x="12169" y="4589"/>
                  <a:pt x="12477" y="4589"/>
                </a:cubicBezTo>
              </a:path>
              <a:path w="6525" h="1514">
                <a:moveTo>
                  <a:pt x="10740" y="4887"/>
                </a:moveTo>
                <a:cubicBezTo>
                  <a:pt x="10892" y="4805"/>
                  <a:pt x="11099" y="4835"/>
                  <a:pt x="11038" y="5085"/>
                </a:cubicBezTo>
                <a:cubicBezTo>
                  <a:pt x="10992" y="5272"/>
                  <a:pt x="10838" y="5284"/>
                  <a:pt x="10691" y="5308"/>
                </a:cubicBezTo>
                <a:cubicBezTo>
                  <a:pt x="10714" y="5121"/>
                  <a:pt x="10781" y="5017"/>
                  <a:pt x="10988" y="5135"/>
                </a:cubicBezTo>
                <a:cubicBezTo>
                  <a:pt x="11013" y="5160"/>
                  <a:pt x="11038" y="5184"/>
                  <a:pt x="11063" y="5209"/>
                </a:cubicBezTo>
              </a:path>
              <a:path w="6525" h="1514">
                <a:moveTo>
                  <a:pt x="11534" y="4762"/>
                </a:moveTo>
                <a:cubicBezTo>
                  <a:pt x="11390" y="4781"/>
                  <a:pt x="11338" y="4791"/>
                  <a:pt x="11311" y="4936"/>
                </a:cubicBezTo>
                <a:cubicBezTo>
                  <a:pt x="11425" y="5037"/>
                  <a:pt x="11521" y="5117"/>
                  <a:pt x="11609" y="5234"/>
                </a:cubicBezTo>
                <a:cubicBezTo>
                  <a:pt x="11469" y="5350"/>
                  <a:pt x="11264" y="5378"/>
                  <a:pt x="11385" y="5110"/>
                </a:cubicBezTo>
                <a:cubicBezTo>
                  <a:pt x="11471" y="4982"/>
                  <a:pt x="11498" y="4958"/>
                  <a:pt x="11509" y="4862"/>
                </a:cubicBezTo>
              </a:path>
              <a:path w="6525" h="1514">
                <a:moveTo>
                  <a:pt x="11708" y="5011"/>
                </a:moveTo>
                <a:cubicBezTo>
                  <a:pt x="11753" y="5101"/>
                  <a:pt x="11795" y="5189"/>
                  <a:pt x="11832" y="5283"/>
                </a:cubicBezTo>
                <a:cubicBezTo>
                  <a:pt x="11849" y="5121"/>
                  <a:pt x="11895" y="4900"/>
                  <a:pt x="12129" y="5011"/>
                </a:cubicBezTo>
                <a:cubicBezTo>
                  <a:pt x="12222" y="5103"/>
                  <a:pt x="12251" y="5127"/>
                  <a:pt x="12278" y="5209"/>
                </a:cubicBezTo>
                <a:cubicBezTo>
                  <a:pt x="12268" y="5153"/>
                  <a:pt x="12237" y="4931"/>
                  <a:pt x="12353" y="4961"/>
                </a:cubicBezTo>
                <a:cubicBezTo>
                  <a:pt x="12471" y="4992"/>
                  <a:pt x="12564" y="5121"/>
                  <a:pt x="12576" y="5234"/>
                </a:cubicBezTo>
                <a:cubicBezTo>
                  <a:pt x="12576" y="5250"/>
                  <a:pt x="12576" y="5267"/>
                  <a:pt x="12576" y="5283"/>
                </a:cubicBezTo>
              </a:path>
              <a:path w="6525" h="1514">
                <a:moveTo>
                  <a:pt x="8781" y="5457"/>
                </a:moveTo>
                <a:cubicBezTo>
                  <a:pt x="8911" y="5511"/>
                  <a:pt x="8951" y="5563"/>
                  <a:pt x="9029" y="5680"/>
                </a:cubicBezTo>
              </a:path>
              <a:path w="6525" h="1514">
                <a:moveTo>
                  <a:pt x="9029" y="5358"/>
                </a:moveTo>
                <a:cubicBezTo>
                  <a:pt x="8941" y="5512"/>
                  <a:pt x="8848" y="5630"/>
                  <a:pt x="8880" y="5804"/>
                </a:cubicBezTo>
              </a:path>
              <a:path w="6525" h="1514">
                <a:moveTo>
                  <a:pt x="9227" y="5507"/>
                </a:moveTo>
                <a:cubicBezTo>
                  <a:pt x="9227" y="5556"/>
                  <a:pt x="9227" y="5606"/>
                  <a:pt x="9227" y="5655"/>
                </a:cubicBezTo>
                <a:cubicBezTo>
                  <a:pt x="9319" y="5648"/>
                  <a:pt x="9393" y="5618"/>
                  <a:pt x="9475" y="5606"/>
                </a:cubicBezTo>
              </a:path>
              <a:path w="6525" h="1514">
                <a:moveTo>
                  <a:pt x="9475" y="5457"/>
                </a:moveTo>
                <a:cubicBezTo>
                  <a:pt x="9475" y="5617"/>
                  <a:pt x="9489" y="5770"/>
                  <a:pt x="9500" y="5928"/>
                </a:cubicBezTo>
              </a:path>
              <a:path w="6525" h="1514">
                <a:moveTo>
                  <a:pt x="6573" y="4490"/>
                </a:moveTo>
                <a:cubicBezTo>
                  <a:pt x="6581" y="4473"/>
                  <a:pt x="6590" y="4457"/>
                  <a:pt x="6598" y="4440"/>
                </a:cubicBezTo>
                <a:cubicBezTo>
                  <a:pt x="6635" y="4403"/>
                  <a:pt x="6636" y="4403"/>
                  <a:pt x="6672" y="4440"/>
                </a:cubicBezTo>
                <a:cubicBezTo>
                  <a:pt x="6768" y="4538"/>
                  <a:pt x="6634" y="4443"/>
                  <a:pt x="6672" y="4564"/>
                </a:cubicBezTo>
                <a:cubicBezTo>
                  <a:pt x="6709" y="4679"/>
                  <a:pt x="6818" y="4643"/>
                  <a:pt x="6747" y="4514"/>
                </a:cubicBezTo>
                <a:cubicBezTo>
                  <a:pt x="6706" y="4596"/>
                  <a:pt x="6693" y="4589"/>
                  <a:pt x="6772" y="4589"/>
                </a:cubicBezTo>
                <a:cubicBezTo>
                  <a:pt x="6772" y="4537"/>
                  <a:pt x="6770" y="4519"/>
                  <a:pt x="6722" y="4514"/>
                </a:cubicBezTo>
              </a:path>
              <a:path w="6525" h="1514">
                <a:moveTo>
                  <a:pt x="6697" y="4564"/>
                </a:moveTo>
                <a:cubicBezTo>
                  <a:pt x="6649" y="4660"/>
                  <a:pt x="6764" y="4519"/>
                  <a:pt x="6648" y="4539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59240" y="1241280"/>
            <a:ext cx="1090800" cy="669960"/>
          </a:xfrm>
          <a:custGeom>
            <a:avLst/>
            <a:gdLst/>
            <a:ahLst/>
            <a:rect l="l" t="t" r="r" b="b"/>
            <a:pathLst>
              <a:path w="3027" h="1861">
                <a:moveTo>
                  <a:pt x="15900" y="3944"/>
                </a:moveTo>
                <a:cubicBezTo>
                  <a:pt x="15806" y="3993"/>
                  <a:pt x="15506" y="4021"/>
                  <a:pt x="15478" y="4093"/>
                </a:cubicBezTo>
                <a:cubicBezTo>
                  <a:pt x="15448" y="4172"/>
                  <a:pt x="15438" y="4400"/>
                  <a:pt x="15453" y="4440"/>
                </a:cubicBezTo>
                <a:cubicBezTo>
                  <a:pt x="15754" y="4328"/>
                  <a:pt x="15889" y="4235"/>
                  <a:pt x="16173" y="4366"/>
                </a:cubicBezTo>
                <a:cubicBezTo>
                  <a:pt x="16081" y="4703"/>
                  <a:pt x="15909" y="4723"/>
                  <a:pt x="15577" y="4787"/>
                </a:cubicBezTo>
              </a:path>
              <a:path w="3027" h="1861">
                <a:moveTo>
                  <a:pt x="16520" y="4316"/>
                </a:moveTo>
                <a:cubicBezTo>
                  <a:pt x="16561" y="4439"/>
                  <a:pt x="16578" y="4461"/>
                  <a:pt x="16570" y="4539"/>
                </a:cubicBezTo>
              </a:path>
              <a:path w="3027" h="1861">
                <a:moveTo>
                  <a:pt x="16470" y="4068"/>
                </a:moveTo>
                <a:lnTo>
                  <a:pt x="16470" y="4068"/>
                </a:lnTo>
              </a:path>
              <a:path w="3027" h="1861">
                <a:moveTo>
                  <a:pt x="16694" y="4316"/>
                </a:moveTo>
                <a:cubicBezTo>
                  <a:pt x="16738" y="4426"/>
                  <a:pt x="16746" y="4456"/>
                  <a:pt x="16793" y="4514"/>
                </a:cubicBezTo>
                <a:cubicBezTo>
                  <a:pt x="16750" y="4342"/>
                  <a:pt x="16673" y="4088"/>
                  <a:pt x="16966" y="4093"/>
                </a:cubicBezTo>
                <a:cubicBezTo>
                  <a:pt x="17198" y="4097"/>
                  <a:pt x="17260" y="4290"/>
                  <a:pt x="17338" y="4465"/>
                </a:cubicBezTo>
              </a:path>
              <a:path w="3027" h="1861">
                <a:moveTo>
                  <a:pt x="15007" y="5308"/>
                </a:moveTo>
                <a:cubicBezTo>
                  <a:pt x="15622" y="5104"/>
                  <a:pt x="16273" y="4998"/>
                  <a:pt x="16917" y="4911"/>
                </a:cubicBezTo>
                <a:cubicBezTo>
                  <a:pt x="17104" y="4886"/>
                  <a:pt x="17436" y="4845"/>
                  <a:pt x="17636" y="4812"/>
                </a:cubicBezTo>
                <a:cubicBezTo>
                  <a:pt x="17620" y="4433"/>
                  <a:pt x="17515" y="4101"/>
                  <a:pt x="17388" y="3746"/>
                </a:cubicBezTo>
                <a:cubicBezTo>
                  <a:pt x="17356" y="3656"/>
                  <a:pt x="17318" y="3556"/>
                  <a:pt x="17289" y="3473"/>
                </a:cubicBezTo>
                <a:cubicBezTo>
                  <a:pt x="17035" y="3522"/>
                  <a:pt x="16695" y="3630"/>
                  <a:pt x="16421" y="3696"/>
                </a:cubicBezTo>
                <a:cubicBezTo>
                  <a:pt x="16005" y="3797"/>
                  <a:pt x="15599" y="3771"/>
                  <a:pt x="15180" y="3820"/>
                </a:cubicBezTo>
                <a:cubicBezTo>
                  <a:pt x="14989" y="3842"/>
                  <a:pt x="14798" y="3883"/>
                  <a:pt x="14610" y="3919"/>
                </a:cubicBezTo>
                <a:cubicBezTo>
                  <a:pt x="14642" y="4284"/>
                  <a:pt x="14743" y="4611"/>
                  <a:pt x="14858" y="4961"/>
                </a:cubicBezTo>
                <a:cubicBezTo>
                  <a:pt x="14880" y="5026"/>
                  <a:pt x="14888" y="5041"/>
                  <a:pt x="14883" y="508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01960" y="3062160"/>
            <a:ext cx="723960" cy="617760"/>
          </a:xfrm>
          <a:custGeom>
            <a:avLst/>
            <a:gdLst/>
            <a:ahLst/>
            <a:rect l="l" t="t" r="r" b="b"/>
            <a:pathLst>
              <a:path w="2010" h="1713">
                <a:moveTo>
                  <a:pt x="8111" y="8632"/>
                </a:moveTo>
                <a:cubicBezTo>
                  <a:pt x="8143" y="8613"/>
                  <a:pt x="8544" y="8364"/>
                  <a:pt x="8533" y="8558"/>
                </a:cubicBezTo>
                <a:cubicBezTo>
                  <a:pt x="8523" y="8724"/>
                  <a:pt x="8354" y="8775"/>
                  <a:pt x="8235" y="8830"/>
                </a:cubicBezTo>
                <a:cubicBezTo>
                  <a:pt x="8477" y="8812"/>
                  <a:pt x="8538" y="8819"/>
                  <a:pt x="8706" y="8954"/>
                </a:cubicBezTo>
                <a:cubicBezTo>
                  <a:pt x="8460" y="9105"/>
                  <a:pt x="8380" y="9111"/>
                  <a:pt x="8086" y="9103"/>
                </a:cubicBezTo>
              </a:path>
              <a:path w="2010" h="1713">
                <a:moveTo>
                  <a:pt x="8954" y="9004"/>
                </a:moveTo>
                <a:lnTo>
                  <a:pt x="8954" y="9004"/>
                </a:lnTo>
              </a:path>
              <a:path w="2010" h="1713">
                <a:moveTo>
                  <a:pt x="8880" y="8607"/>
                </a:moveTo>
                <a:lnTo>
                  <a:pt x="8880" y="8607"/>
                </a:lnTo>
              </a:path>
              <a:path w="2010" h="1713">
                <a:moveTo>
                  <a:pt x="9203" y="8979"/>
                </a:moveTo>
                <a:cubicBezTo>
                  <a:pt x="9169" y="8828"/>
                  <a:pt x="9335" y="8715"/>
                  <a:pt x="9500" y="8756"/>
                </a:cubicBezTo>
                <a:cubicBezTo>
                  <a:pt x="9699" y="8806"/>
                  <a:pt x="9698" y="8955"/>
                  <a:pt x="9699" y="9103"/>
                </a:cubicBezTo>
              </a:path>
              <a:path w="2010" h="1713">
                <a:moveTo>
                  <a:pt x="8062" y="9327"/>
                </a:moveTo>
                <a:cubicBezTo>
                  <a:pt x="8666" y="9251"/>
                  <a:pt x="9287" y="9153"/>
                  <a:pt x="9897" y="9153"/>
                </a:cubicBezTo>
                <a:cubicBezTo>
                  <a:pt x="9955" y="9161"/>
                  <a:pt x="10013" y="9170"/>
                  <a:pt x="10071" y="9178"/>
                </a:cubicBezTo>
              </a:path>
              <a:path w="2010" h="1713">
                <a:moveTo>
                  <a:pt x="8582" y="9723"/>
                </a:moveTo>
                <a:cubicBezTo>
                  <a:pt x="8693" y="9669"/>
                  <a:pt x="8739" y="9652"/>
                  <a:pt x="8830" y="9674"/>
                </a:cubicBezTo>
                <a:cubicBezTo>
                  <a:pt x="8966" y="9920"/>
                  <a:pt x="8966" y="10116"/>
                  <a:pt x="8632" y="10220"/>
                </a:cubicBezTo>
                <a:cubicBezTo>
                  <a:pt x="8582" y="10220"/>
                  <a:pt x="8533" y="10220"/>
                  <a:pt x="8483" y="10220"/>
                </a:cubicBezTo>
                <a:cubicBezTo>
                  <a:pt x="8581" y="10122"/>
                  <a:pt x="8875" y="9941"/>
                  <a:pt x="9029" y="10120"/>
                </a:cubicBezTo>
                <a:cubicBezTo>
                  <a:pt x="9029" y="10145"/>
                  <a:pt x="9029" y="10170"/>
                  <a:pt x="9029" y="10195"/>
                </a:cubicBezTo>
              </a:path>
              <a:path w="2010" h="1713">
                <a:moveTo>
                  <a:pt x="9624" y="9475"/>
                </a:moveTo>
                <a:cubicBezTo>
                  <a:pt x="9323" y="9576"/>
                  <a:pt x="9412" y="9661"/>
                  <a:pt x="9500" y="9947"/>
                </a:cubicBezTo>
                <a:cubicBezTo>
                  <a:pt x="9541" y="10088"/>
                  <a:pt x="9568" y="10113"/>
                  <a:pt x="9525" y="10195"/>
                </a:cubicBezTo>
              </a:path>
              <a:path w="2010" h="1713">
                <a:moveTo>
                  <a:pt x="9351" y="9947"/>
                </a:moveTo>
                <a:cubicBezTo>
                  <a:pt x="9434" y="9939"/>
                  <a:pt x="9516" y="9930"/>
                  <a:pt x="9599" y="9922"/>
                </a:cubicBezTo>
              </a:path>
              <a:path w="2010" h="1713">
                <a:moveTo>
                  <a:pt x="9897" y="9500"/>
                </a:moveTo>
                <a:cubicBezTo>
                  <a:pt x="9939" y="9690"/>
                  <a:pt x="9981" y="9880"/>
                  <a:pt x="10021" y="10071"/>
                </a:cubicBezTo>
              </a:path>
              <a:path w="2010" h="1713">
                <a:moveTo>
                  <a:pt x="9773" y="9847"/>
                </a:moveTo>
                <a:cubicBezTo>
                  <a:pt x="9856" y="9831"/>
                  <a:pt x="9938" y="9814"/>
                  <a:pt x="10021" y="979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6040" y="331308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10988" y="9227"/>
                </a:moveTo>
                <a:cubicBezTo>
                  <a:pt x="11178" y="9201"/>
                  <a:pt x="11251" y="9193"/>
                  <a:pt x="11385" y="9203"/>
                </a:cubicBezTo>
              </a:path>
              <a:path w="398" h="224">
                <a:moveTo>
                  <a:pt x="11013" y="9401"/>
                </a:moveTo>
                <a:cubicBezTo>
                  <a:pt x="11071" y="9409"/>
                  <a:pt x="11129" y="9418"/>
                  <a:pt x="11187" y="9426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46720" y="3044880"/>
            <a:ext cx="974520" cy="615960"/>
          </a:xfrm>
          <a:custGeom>
            <a:avLst/>
            <a:gdLst/>
            <a:ahLst/>
            <a:rect l="l" t="t" r="r" b="b"/>
            <a:pathLst>
              <a:path w="2704" h="1713">
                <a:moveTo>
                  <a:pt x="12874" y="9649"/>
                </a:moveTo>
                <a:cubicBezTo>
                  <a:pt x="12890" y="9632"/>
                  <a:pt x="12907" y="9616"/>
                  <a:pt x="12923" y="9599"/>
                </a:cubicBezTo>
                <a:cubicBezTo>
                  <a:pt x="12798" y="9428"/>
                  <a:pt x="12609" y="9318"/>
                  <a:pt x="12502" y="9624"/>
                </a:cubicBezTo>
                <a:cubicBezTo>
                  <a:pt x="12371" y="9996"/>
                  <a:pt x="12756" y="9773"/>
                  <a:pt x="12849" y="9649"/>
                </a:cubicBezTo>
                <a:cubicBezTo>
                  <a:pt x="12894" y="9808"/>
                  <a:pt x="12912" y="9978"/>
                  <a:pt x="12923" y="10145"/>
                </a:cubicBezTo>
              </a:path>
              <a:path w="2704" h="1713">
                <a:moveTo>
                  <a:pt x="13221" y="9426"/>
                </a:moveTo>
                <a:cubicBezTo>
                  <a:pt x="13233" y="9542"/>
                  <a:pt x="13193" y="9976"/>
                  <a:pt x="13320" y="10046"/>
                </a:cubicBezTo>
                <a:cubicBezTo>
                  <a:pt x="13486" y="10070"/>
                  <a:pt x="13536" y="10080"/>
                  <a:pt x="13643" y="10046"/>
                </a:cubicBezTo>
              </a:path>
              <a:path w="2704" h="1713">
                <a:moveTo>
                  <a:pt x="13246" y="9798"/>
                </a:moveTo>
                <a:cubicBezTo>
                  <a:pt x="13296" y="9781"/>
                  <a:pt x="13345" y="9765"/>
                  <a:pt x="13395" y="9748"/>
                </a:cubicBezTo>
              </a:path>
              <a:path w="2704" h="1713">
                <a:moveTo>
                  <a:pt x="13444" y="9451"/>
                </a:moveTo>
                <a:cubicBezTo>
                  <a:pt x="13344" y="9391"/>
                  <a:pt x="13239" y="9430"/>
                  <a:pt x="13246" y="9575"/>
                </a:cubicBezTo>
                <a:cubicBezTo>
                  <a:pt x="13256" y="9787"/>
                  <a:pt x="13386" y="9966"/>
                  <a:pt x="13419" y="10170"/>
                </a:cubicBezTo>
              </a:path>
              <a:path w="2704" h="1713">
                <a:moveTo>
                  <a:pt x="13221" y="9773"/>
                </a:moveTo>
                <a:cubicBezTo>
                  <a:pt x="13454" y="9773"/>
                  <a:pt x="13523" y="9777"/>
                  <a:pt x="13667" y="9723"/>
                </a:cubicBezTo>
              </a:path>
              <a:path w="2704" h="1713">
                <a:moveTo>
                  <a:pt x="13717" y="9475"/>
                </a:moveTo>
                <a:cubicBezTo>
                  <a:pt x="13717" y="9638"/>
                  <a:pt x="13662" y="9810"/>
                  <a:pt x="13692" y="9971"/>
                </a:cubicBezTo>
                <a:cubicBezTo>
                  <a:pt x="13729" y="10170"/>
                  <a:pt x="13922" y="10051"/>
                  <a:pt x="14039" y="10021"/>
                </a:cubicBezTo>
              </a:path>
              <a:path w="2704" h="1713">
                <a:moveTo>
                  <a:pt x="13667" y="9798"/>
                </a:moveTo>
                <a:cubicBezTo>
                  <a:pt x="13717" y="9790"/>
                  <a:pt x="13766" y="9781"/>
                  <a:pt x="13816" y="9773"/>
                </a:cubicBezTo>
              </a:path>
              <a:path w="2704" h="1713">
                <a:moveTo>
                  <a:pt x="12502" y="9227"/>
                </a:moveTo>
                <a:cubicBezTo>
                  <a:pt x="12953" y="9160"/>
                  <a:pt x="13409" y="9131"/>
                  <a:pt x="13866" y="9103"/>
                </a:cubicBezTo>
                <a:cubicBezTo>
                  <a:pt x="13891" y="9103"/>
                  <a:pt x="13915" y="9103"/>
                  <a:pt x="13940" y="9103"/>
                </a:cubicBezTo>
              </a:path>
              <a:path w="2704" h="1713">
                <a:moveTo>
                  <a:pt x="12353" y="8458"/>
                </a:moveTo>
                <a:cubicBezTo>
                  <a:pt x="12407" y="8458"/>
                  <a:pt x="12716" y="8424"/>
                  <a:pt x="12725" y="8483"/>
                </a:cubicBezTo>
                <a:cubicBezTo>
                  <a:pt x="12683" y="8525"/>
                  <a:pt x="12675" y="8533"/>
                  <a:pt x="12650" y="8558"/>
                </a:cubicBezTo>
              </a:path>
              <a:path w="2704" h="1713">
                <a:moveTo>
                  <a:pt x="12551" y="8508"/>
                </a:moveTo>
                <a:cubicBezTo>
                  <a:pt x="12483" y="8508"/>
                  <a:pt x="12636" y="8511"/>
                  <a:pt x="12650" y="8508"/>
                </a:cubicBezTo>
                <a:cubicBezTo>
                  <a:pt x="12852" y="8464"/>
                  <a:pt x="12665" y="8718"/>
                  <a:pt x="12725" y="8558"/>
                </a:cubicBezTo>
                <a:cubicBezTo>
                  <a:pt x="12733" y="8541"/>
                  <a:pt x="12742" y="8525"/>
                  <a:pt x="12750" y="8508"/>
                </a:cubicBezTo>
                <a:cubicBezTo>
                  <a:pt x="12704" y="8652"/>
                  <a:pt x="12659" y="8791"/>
                  <a:pt x="12601" y="8930"/>
                </a:cubicBezTo>
                <a:cubicBezTo>
                  <a:pt x="12827" y="8907"/>
                  <a:pt x="13043" y="8844"/>
                  <a:pt x="13271" y="8830"/>
                </a:cubicBezTo>
                <a:cubicBezTo>
                  <a:pt x="13279" y="8830"/>
                  <a:pt x="13287" y="8830"/>
                  <a:pt x="13295" y="8830"/>
                </a:cubicBezTo>
              </a:path>
              <a:path w="2704" h="1713">
                <a:moveTo>
                  <a:pt x="14635" y="9426"/>
                </a:moveTo>
                <a:cubicBezTo>
                  <a:pt x="14776" y="9420"/>
                  <a:pt x="14915" y="9408"/>
                  <a:pt x="15056" y="9401"/>
                </a:cubicBezTo>
              </a:path>
              <a:path w="2704" h="1713">
                <a:moveTo>
                  <a:pt x="14734" y="9550"/>
                </a:moveTo>
                <a:cubicBezTo>
                  <a:pt x="14808" y="9550"/>
                  <a:pt x="14883" y="9550"/>
                  <a:pt x="14957" y="9550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9120" y="3017880"/>
            <a:ext cx="1517760" cy="492120"/>
          </a:xfrm>
          <a:custGeom>
            <a:avLst/>
            <a:gdLst/>
            <a:ahLst/>
            <a:rect l="l" t="t" r="r" b="b"/>
            <a:pathLst>
              <a:path w="4217" h="1365">
                <a:moveTo>
                  <a:pt x="16942" y="8483"/>
                </a:moveTo>
                <a:cubicBezTo>
                  <a:pt x="17119" y="8453"/>
                  <a:pt x="17327" y="8416"/>
                  <a:pt x="17165" y="8657"/>
                </a:cubicBezTo>
                <a:cubicBezTo>
                  <a:pt x="17140" y="8682"/>
                  <a:pt x="17115" y="8706"/>
                  <a:pt x="17090" y="8731"/>
                </a:cubicBezTo>
                <a:cubicBezTo>
                  <a:pt x="17206" y="8770"/>
                  <a:pt x="17244" y="8778"/>
                  <a:pt x="17314" y="8855"/>
                </a:cubicBezTo>
                <a:cubicBezTo>
                  <a:pt x="17162" y="8931"/>
                  <a:pt x="17110" y="8957"/>
                  <a:pt x="16991" y="8954"/>
                </a:cubicBezTo>
              </a:path>
              <a:path w="4217" h="1365">
                <a:moveTo>
                  <a:pt x="17512" y="8607"/>
                </a:moveTo>
                <a:cubicBezTo>
                  <a:pt x="17545" y="8673"/>
                  <a:pt x="17578" y="8740"/>
                  <a:pt x="17611" y="8806"/>
                </a:cubicBezTo>
              </a:path>
              <a:path w="4217" h="1365">
                <a:moveTo>
                  <a:pt x="17537" y="8706"/>
                </a:moveTo>
                <a:cubicBezTo>
                  <a:pt x="17512" y="8764"/>
                  <a:pt x="17487" y="8822"/>
                  <a:pt x="17462" y="8880"/>
                </a:cubicBezTo>
              </a:path>
              <a:path w="4217" h="1365">
                <a:moveTo>
                  <a:pt x="18157" y="8582"/>
                </a:moveTo>
                <a:cubicBezTo>
                  <a:pt x="18003" y="8533"/>
                  <a:pt x="17987" y="8602"/>
                  <a:pt x="17909" y="8731"/>
                </a:cubicBezTo>
                <a:cubicBezTo>
                  <a:pt x="18042" y="8771"/>
                  <a:pt x="18073" y="8751"/>
                  <a:pt x="18182" y="8657"/>
                </a:cubicBezTo>
                <a:cubicBezTo>
                  <a:pt x="18174" y="8776"/>
                  <a:pt x="18157" y="8888"/>
                  <a:pt x="18132" y="9004"/>
                </a:cubicBezTo>
              </a:path>
              <a:path w="4217" h="1365">
                <a:moveTo>
                  <a:pt x="18604" y="8632"/>
                </a:moveTo>
                <a:lnTo>
                  <a:pt x="18604" y="8632"/>
                </a:lnTo>
              </a:path>
              <a:path w="4217" h="1365">
                <a:moveTo>
                  <a:pt x="18529" y="8756"/>
                </a:moveTo>
                <a:cubicBezTo>
                  <a:pt x="18570" y="8756"/>
                  <a:pt x="18612" y="8756"/>
                  <a:pt x="18653" y="8756"/>
                </a:cubicBezTo>
              </a:path>
              <a:path w="4217" h="1365">
                <a:moveTo>
                  <a:pt x="19348" y="8508"/>
                </a:moveTo>
                <a:cubicBezTo>
                  <a:pt x="19551" y="8508"/>
                  <a:pt x="19588" y="8558"/>
                  <a:pt x="19695" y="8706"/>
                </a:cubicBezTo>
                <a:cubicBezTo>
                  <a:pt x="19547" y="8803"/>
                  <a:pt x="19486" y="8821"/>
                  <a:pt x="19298" y="8830"/>
                </a:cubicBezTo>
                <a:cubicBezTo>
                  <a:pt x="19426" y="8655"/>
                  <a:pt x="19500" y="8720"/>
                  <a:pt x="19670" y="8830"/>
                </a:cubicBezTo>
              </a:path>
              <a:path w="4217" h="1365">
                <a:moveTo>
                  <a:pt x="19943" y="8384"/>
                </a:moveTo>
                <a:cubicBezTo>
                  <a:pt x="20138" y="8470"/>
                  <a:pt x="20300" y="8461"/>
                  <a:pt x="20513" y="8434"/>
                </a:cubicBezTo>
                <a:cubicBezTo>
                  <a:pt x="20443" y="8623"/>
                  <a:pt x="20421" y="8679"/>
                  <a:pt x="20389" y="8806"/>
                </a:cubicBezTo>
              </a:path>
              <a:path w="4217" h="1365">
                <a:moveTo>
                  <a:pt x="17611" y="9178"/>
                </a:moveTo>
                <a:cubicBezTo>
                  <a:pt x="17755" y="9218"/>
                  <a:pt x="17669" y="9421"/>
                  <a:pt x="17661" y="9550"/>
                </a:cubicBezTo>
                <a:cubicBezTo>
                  <a:pt x="17661" y="9575"/>
                  <a:pt x="17661" y="9599"/>
                  <a:pt x="17661" y="9624"/>
                </a:cubicBezTo>
              </a:path>
              <a:path w="4217" h="1365">
                <a:moveTo>
                  <a:pt x="18207" y="9178"/>
                </a:moveTo>
                <a:cubicBezTo>
                  <a:pt x="18269" y="9171"/>
                  <a:pt x="18559" y="9086"/>
                  <a:pt x="18504" y="9252"/>
                </a:cubicBezTo>
                <a:cubicBezTo>
                  <a:pt x="18428" y="9354"/>
                  <a:pt x="18400" y="9388"/>
                  <a:pt x="18306" y="9401"/>
                </a:cubicBezTo>
                <a:cubicBezTo>
                  <a:pt x="18289" y="9401"/>
                  <a:pt x="18273" y="9401"/>
                  <a:pt x="18256" y="9401"/>
                </a:cubicBezTo>
                <a:cubicBezTo>
                  <a:pt x="18310" y="9381"/>
                  <a:pt x="18619" y="9300"/>
                  <a:pt x="18529" y="9475"/>
                </a:cubicBezTo>
                <a:cubicBezTo>
                  <a:pt x="18445" y="9639"/>
                  <a:pt x="18297" y="9588"/>
                  <a:pt x="18157" y="9575"/>
                </a:cubicBezTo>
              </a:path>
              <a:path w="4217" h="1365">
                <a:moveTo>
                  <a:pt x="18976" y="9500"/>
                </a:moveTo>
                <a:cubicBezTo>
                  <a:pt x="18943" y="9555"/>
                  <a:pt x="18941" y="9616"/>
                  <a:pt x="19000" y="9525"/>
                </a:cubicBezTo>
              </a:path>
              <a:path w="4217" h="1365">
                <a:moveTo>
                  <a:pt x="19645" y="9128"/>
                </a:moveTo>
                <a:cubicBezTo>
                  <a:pt x="19481" y="9090"/>
                  <a:pt x="19389" y="9050"/>
                  <a:pt x="19323" y="9227"/>
                </a:cubicBezTo>
                <a:cubicBezTo>
                  <a:pt x="19303" y="9326"/>
                  <a:pt x="19295" y="9342"/>
                  <a:pt x="19298" y="9401"/>
                </a:cubicBezTo>
                <a:cubicBezTo>
                  <a:pt x="19428" y="9346"/>
                  <a:pt x="19513" y="9239"/>
                  <a:pt x="19670" y="9351"/>
                </a:cubicBezTo>
                <a:cubicBezTo>
                  <a:pt x="19919" y="9528"/>
                  <a:pt x="19766" y="9630"/>
                  <a:pt x="19571" y="9649"/>
                </a:cubicBezTo>
              </a:path>
              <a:path w="4217" h="1365">
                <a:moveTo>
                  <a:pt x="20166" y="9451"/>
                </a:moveTo>
                <a:cubicBezTo>
                  <a:pt x="20258" y="9451"/>
                  <a:pt x="20216" y="9569"/>
                  <a:pt x="20216" y="9649"/>
                </a:cubicBezTo>
              </a:path>
              <a:path w="4217" h="1365">
                <a:moveTo>
                  <a:pt x="20166" y="9277"/>
                </a:moveTo>
                <a:lnTo>
                  <a:pt x="20166" y="9277"/>
                </a:lnTo>
              </a:path>
              <a:path w="4217" h="1365">
                <a:moveTo>
                  <a:pt x="20439" y="9674"/>
                </a:moveTo>
                <a:cubicBezTo>
                  <a:pt x="20492" y="9661"/>
                  <a:pt x="20482" y="9537"/>
                  <a:pt x="20563" y="9475"/>
                </a:cubicBezTo>
                <a:cubicBezTo>
                  <a:pt x="20717" y="9358"/>
                  <a:pt x="20803" y="9505"/>
                  <a:pt x="20836" y="9649"/>
                </a:cubicBezTo>
                <a:cubicBezTo>
                  <a:pt x="20836" y="9666"/>
                  <a:pt x="20836" y="9682"/>
                  <a:pt x="20836" y="9699"/>
                </a:cubicBezTo>
              </a:path>
              <a:path w="4217" h="1365">
                <a:moveTo>
                  <a:pt x="21158" y="9748"/>
                </a:moveTo>
                <a:lnTo>
                  <a:pt x="21158" y="9748"/>
                </a:ln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40280" y="3456000"/>
            <a:ext cx="973440" cy="312840"/>
          </a:xfrm>
          <a:custGeom>
            <a:avLst/>
            <a:gdLst/>
            <a:ahLst/>
            <a:rect l="l" t="t" r="r" b="b"/>
            <a:pathLst>
              <a:path w="2705" h="870">
                <a:moveTo>
                  <a:pt x="17661" y="9922"/>
                </a:moveTo>
                <a:cubicBezTo>
                  <a:pt x="17846" y="10052"/>
                  <a:pt x="18126" y="10293"/>
                  <a:pt x="17711" y="10393"/>
                </a:cubicBezTo>
                <a:cubicBezTo>
                  <a:pt x="17653" y="10393"/>
                  <a:pt x="17595" y="10393"/>
                  <a:pt x="17537" y="10393"/>
                </a:cubicBezTo>
                <a:cubicBezTo>
                  <a:pt x="17536" y="10182"/>
                  <a:pt x="17767" y="10091"/>
                  <a:pt x="18008" y="10195"/>
                </a:cubicBezTo>
                <a:cubicBezTo>
                  <a:pt x="18016" y="10211"/>
                  <a:pt x="18025" y="10228"/>
                  <a:pt x="18033" y="10244"/>
                </a:cubicBezTo>
              </a:path>
              <a:path w="2705" h="870">
                <a:moveTo>
                  <a:pt x="18256" y="9872"/>
                </a:moveTo>
                <a:cubicBezTo>
                  <a:pt x="18467" y="9862"/>
                  <a:pt x="18647" y="9767"/>
                  <a:pt x="18628" y="10021"/>
                </a:cubicBezTo>
                <a:cubicBezTo>
                  <a:pt x="18606" y="10181"/>
                  <a:pt x="18603" y="10226"/>
                  <a:pt x="18554" y="10319"/>
                </a:cubicBezTo>
              </a:path>
              <a:path w="2705" h="870">
                <a:moveTo>
                  <a:pt x="17264" y="10468"/>
                </a:moveTo>
                <a:cubicBezTo>
                  <a:pt x="17245" y="10296"/>
                  <a:pt x="17235" y="10122"/>
                  <a:pt x="17214" y="9947"/>
                </a:cubicBezTo>
                <a:cubicBezTo>
                  <a:pt x="17197" y="9823"/>
                  <a:pt x="17189" y="9815"/>
                  <a:pt x="17190" y="9748"/>
                </a:cubicBezTo>
                <a:cubicBezTo>
                  <a:pt x="17575" y="9671"/>
                  <a:pt x="17936" y="9593"/>
                  <a:pt x="18331" y="9599"/>
                </a:cubicBezTo>
                <a:cubicBezTo>
                  <a:pt x="18554" y="9603"/>
                  <a:pt x="18719" y="9638"/>
                  <a:pt x="18926" y="9699"/>
                </a:cubicBezTo>
              </a:path>
              <a:path w="2705" h="870">
                <a:moveTo>
                  <a:pt x="16570" y="9823"/>
                </a:moveTo>
                <a:cubicBezTo>
                  <a:pt x="16523" y="9916"/>
                  <a:pt x="16511" y="9943"/>
                  <a:pt x="16470" y="9996"/>
                </a:cubicBezTo>
                <a:cubicBezTo>
                  <a:pt x="16614" y="9875"/>
                  <a:pt x="16835" y="9823"/>
                  <a:pt x="16768" y="10145"/>
                </a:cubicBezTo>
                <a:cubicBezTo>
                  <a:pt x="16709" y="10430"/>
                  <a:pt x="16396" y="10463"/>
                  <a:pt x="16222" y="10344"/>
                </a:cubicBezTo>
                <a:cubicBezTo>
                  <a:pt x="16394" y="10202"/>
                  <a:pt x="16560" y="10115"/>
                  <a:pt x="16718" y="10344"/>
                </a:cubicBezTo>
                <a:cubicBezTo>
                  <a:pt x="16726" y="10369"/>
                  <a:pt x="16735" y="10393"/>
                  <a:pt x="16743" y="1041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17800" y="5187960"/>
            <a:ext cx="1438200" cy="473040"/>
          </a:xfrm>
          <a:custGeom>
            <a:avLst/>
            <a:gdLst/>
            <a:ahLst/>
            <a:rect l="l" t="t" r="r" b="b"/>
            <a:pathLst>
              <a:path w="3994" h="1315">
                <a:moveTo>
                  <a:pt x="5606" y="14784"/>
                </a:moveTo>
                <a:cubicBezTo>
                  <a:pt x="5643" y="14689"/>
                  <a:pt x="5671" y="14578"/>
                  <a:pt x="5779" y="14536"/>
                </a:cubicBezTo>
                <a:cubicBezTo>
                  <a:pt x="5829" y="14528"/>
                  <a:pt x="5878" y="14519"/>
                  <a:pt x="5928" y="14511"/>
                </a:cubicBezTo>
                <a:cubicBezTo>
                  <a:pt x="6122" y="14765"/>
                  <a:pt x="6124" y="14970"/>
                  <a:pt x="5779" y="15131"/>
                </a:cubicBezTo>
                <a:cubicBezTo>
                  <a:pt x="5730" y="15139"/>
                  <a:pt x="5680" y="15148"/>
                  <a:pt x="5631" y="15156"/>
                </a:cubicBezTo>
                <a:cubicBezTo>
                  <a:pt x="5670" y="14943"/>
                  <a:pt x="5797" y="14873"/>
                  <a:pt x="6003" y="15032"/>
                </a:cubicBezTo>
                <a:cubicBezTo>
                  <a:pt x="6036" y="15073"/>
                  <a:pt x="6069" y="15115"/>
                  <a:pt x="6102" y="15156"/>
                </a:cubicBezTo>
              </a:path>
              <a:path w="3994" h="1315">
                <a:moveTo>
                  <a:pt x="6350" y="14982"/>
                </a:moveTo>
                <a:lnTo>
                  <a:pt x="6350" y="14982"/>
                </a:lnTo>
              </a:path>
              <a:path w="3994" h="1315">
                <a:moveTo>
                  <a:pt x="6276" y="14684"/>
                </a:moveTo>
                <a:lnTo>
                  <a:pt x="6276" y="14684"/>
                </a:lnTo>
              </a:path>
              <a:path w="3994" h="1315">
                <a:moveTo>
                  <a:pt x="6573" y="14957"/>
                </a:moveTo>
                <a:cubicBezTo>
                  <a:pt x="6678" y="14993"/>
                  <a:pt x="6525" y="14754"/>
                  <a:pt x="6747" y="14759"/>
                </a:cubicBezTo>
                <a:cubicBezTo>
                  <a:pt x="6927" y="14763"/>
                  <a:pt x="6951" y="14931"/>
                  <a:pt x="6995" y="15056"/>
                </a:cubicBezTo>
              </a:path>
              <a:path w="3994" h="1315">
                <a:moveTo>
                  <a:pt x="5606" y="15577"/>
                </a:moveTo>
                <a:cubicBezTo>
                  <a:pt x="6091" y="15459"/>
                  <a:pt x="6572" y="15354"/>
                  <a:pt x="7069" y="15304"/>
                </a:cubicBezTo>
                <a:cubicBezTo>
                  <a:pt x="7086" y="15304"/>
                  <a:pt x="7102" y="15304"/>
                  <a:pt x="7119" y="15304"/>
                </a:cubicBezTo>
              </a:path>
              <a:path w="3994" h="1315">
                <a:moveTo>
                  <a:pt x="9079" y="14610"/>
                </a:moveTo>
                <a:cubicBezTo>
                  <a:pt x="9009" y="14447"/>
                  <a:pt x="9054" y="14700"/>
                  <a:pt x="9054" y="14784"/>
                </a:cubicBezTo>
                <a:cubicBezTo>
                  <a:pt x="9054" y="14899"/>
                  <a:pt x="9054" y="14916"/>
                  <a:pt x="9054" y="14982"/>
                </a:cubicBezTo>
                <a:cubicBezTo>
                  <a:pt x="9054" y="15019"/>
                  <a:pt x="9076" y="14680"/>
                  <a:pt x="9079" y="14635"/>
                </a:cubicBezTo>
                <a:cubicBezTo>
                  <a:pt x="9079" y="14594"/>
                  <a:pt x="9079" y="14552"/>
                  <a:pt x="9079" y="14511"/>
                </a:cubicBezTo>
                <a:cubicBezTo>
                  <a:pt x="9241" y="14663"/>
                  <a:pt x="9404" y="14815"/>
                  <a:pt x="9575" y="14957"/>
                </a:cubicBezTo>
                <a:cubicBezTo>
                  <a:pt x="9618" y="14780"/>
                  <a:pt x="9582" y="14596"/>
                  <a:pt x="9575" y="14412"/>
                </a:cubicBezTo>
              </a:path>
              <a:path w="3994" h="1315">
                <a:moveTo>
                  <a:pt x="7615" y="15528"/>
                </a:moveTo>
                <a:cubicBezTo>
                  <a:pt x="7711" y="15358"/>
                  <a:pt x="8094" y="15539"/>
                  <a:pt x="8260" y="15577"/>
                </a:cubicBezTo>
                <a:cubicBezTo>
                  <a:pt x="8438" y="15617"/>
                  <a:pt x="8474" y="15608"/>
                  <a:pt x="8558" y="15677"/>
                </a:cubicBezTo>
                <a:cubicBezTo>
                  <a:pt x="8280" y="15554"/>
                  <a:pt x="8006" y="15454"/>
                  <a:pt x="7739" y="15304"/>
                </a:cubicBezTo>
                <a:cubicBezTo>
                  <a:pt x="7965" y="15544"/>
                  <a:pt x="8176" y="15665"/>
                  <a:pt x="8508" y="15726"/>
                </a:cubicBezTo>
                <a:cubicBezTo>
                  <a:pt x="8541" y="15726"/>
                  <a:pt x="8574" y="15726"/>
                  <a:pt x="8607" y="15726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89240" y="5429160"/>
            <a:ext cx="142920" cy="115920"/>
          </a:xfrm>
          <a:custGeom>
            <a:avLst/>
            <a:gdLst/>
            <a:ahLst/>
            <a:rect l="l" t="t" r="r" b="b"/>
            <a:pathLst>
              <a:path w="397" h="324">
                <a:moveTo>
                  <a:pt x="11361" y="15131"/>
                </a:moveTo>
                <a:cubicBezTo>
                  <a:pt x="11489" y="15124"/>
                  <a:pt x="11607" y="15108"/>
                  <a:pt x="11733" y="15081"/>
                </a:cubicBezTo>
              </a:path>
              <a:path w="397" h="324">
                <a:moveTo>
                  <a:pt x="11435" y="15404"/>
                </a:moveTo>
                <a:cubicBezTo>
                  <a:pt x="11542" y="15404"/>
                  <a:pt x="11650" y="15404"/>
                  <a:pt x="11757" y="15404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4920" y="5170320"/>
            <a:ext cx="1635120" cy="322560"/>
          </a:xfrm>
          <a:custGeom>
            <a:avLst/>
            <a:gdLst/>
            <a:ahLst/>
            <a:rect l="l" t="t" r="r" b="b"/>
            <a:pathLst>
              <a:path w="4540" h="894">
                <a:moveTo>
                  <a:pt x="13097" y="14858"/>
                </a:moveTo>
                <a:cubicBezTo>
                  <a:pt x="13180" y="14775"/>
                  <a:pt x="13217" y="14743"/>
                  <a:pt x="13295" y="14709"/>
                </a:cubicBezTo>
                <a:cubicBezTo>
                  <a:pt x="13476" y="14848"/>
                  <a:pt x="13565" y="15087"/>
                  <a:pt x="13295" y="15255"/>
                </a:cubicBezTo>
                <a:cubicBezTo>
                  <a:pt x="13262" y="15255"/>
                  <a:pt x="13229" y="15255"/>
                  <a:pt x="13196" y="15255"/>
                </a:cubicBezTo>
                <a:cubicBezTo>
                  <a:pt x="13196" y="15010"/>
                  <a:pt x="13273" y="15040"/>
                  <a:pt x="13469" y="15156"/>
                </a:cubicBezTo>
              </a:path>
              <a:path w="4540" h="894">
                <a:moveTo>
                  <a:pt x="13643" y="14908"/>
                </a:moveTo>
                <a:cubicBezTo>
                  <a:pt x="13711" y="15022"/>
                  <a:pt x="13726" y="15059"/>
                  <a:pt x="13816" y="15081"/>
                </a:cubicBezTo>
              </a:path>
              <a:path w="4540" h="894">
                <a:moveTo>
                  <a:pt x="13692" y="15032"/>
                </a:moveTo>
                <a:cubicBezTo>
                  <a:pt x="13684" y="15081"/>
                  <a:pt x="13675" y="15131"/>
                  <a:pt x="13667" y="15180"/>
                </a:cubicBezTo>
              </a:path>
              <a:path w="4540" h="894">
                <a:moveTo>
                  <a:pt x="13940" y="14759"/>
                </a:moveTo>
                <a:cubicBezTo>
                  <a:pt x="13988" y="14925"/>
                  <a:pt x="14002" y="14975"/>
                  <a:pt x="14039" y="15081"/>
                </a:cubicBezTo>
              </a:path>
              <a:path w="4540" h="894">
                <a:moveTo>
                  <a:pt x="14263" y="14684"/>
                </a:moveTo>
                <a:cubicBezTo>
                  <a:pt x="14242" y="14848"/>
                  <a:pt x="14226" y="14952"/>
                  <a:pt x="14288" y="15106"/>
                </a:cubicBezTo>
              </a:path>
              <a:path w="4540" h="894">
                <a:moveTo>
                  <a:pt x="14536" y="14684"/>
                </a:moveTo>
                <a:cubicBezTo>
                  <a:pt x="14450" y="14694"/>
                  <a:pt x="14318" y="14735"/>
                  <a:pt x="14288" y="14833"/>
                </a:cubicBezTo>
                <a:cubicBezTo>
                  <a:pt x="14249" y="14960"/>
                  <a:pt x="14345" y="15011"/>
                  <a:pt x="14436" y="15056"/>
                </a:cubicBezTo>
                <a:cubicBezTo>
                  <a:pt x="14485" y="14972"/>
                  <a:pt x="14559" y="14880"/>
                  <a:pt x="14511" y="14784"/>
                </a:cubicBezTo>
                <a:cubicBezTo>
                  <a:pt x="14472" y="14707"/>
                  <a:pt x="14395" y="14722"/>
                  <a:pt x="14337" y="14734"/>
                </a:cubicBezTo>
              </a:path>
              <a:path w="4540" h="894">
                <a:moveTo>
                  <a:pt x="14858" y="14684"/>
                </a:moveTo>
                <a:cubicBezTo>
                  <a:pt x="14774" y="14698"/>
                  <a:pt x="14561" y="14800"/>
                  <a:pt x="14660" y="14932"/>
                </a:cubicBezTo>
                <a:cubicBezTo>
                  <a:pt x="14765" y="15072"/>
                  <a:pt x="14935" y="14934"/>
                  <a:pt x="15032" y="14883"/>
                </a:cubicBezTo>
                <a:cubicBezTo>
                  <a:pt x="14977" y="14707"/>
                  <a:pt x="14967" y="14721"/>
                  <a:pt x="14784" y="14684"/>
                </a:cubicBezTo>
              </a:path>
              <a:path w="4540" h="894">
                <a:moveTo>
                  <a:pt x="15280" y="14635"/>
                </a:moveTo>
                <a:cubicBezTo>
                  <a:pt x="15321" y="14627"/>
                  <a:pt x="15363" y="14618"/>
                  <a:pt x="15404" y="14610"/>
                </a:cubicBezTo>
              </a:path>
              <a:path w="4540" h="894">
                <a:moveTo>
                  <a:pt x="15354" y="14808"/>
                </a:moveTo>
                <a:cubicBezTo>
                  <a:pt x="15387" y="14800"/>
                  <a:pt x="15420" y="14792"/>
                  <a:pt x="15453" y="14784"/>
                </a:cubicBezTo>
              </a:path>
              <a:path w="4540" h="894">
                <a:moveTo>
                  <a:pt x="15850" y="14436"/>
                </a:moveTo>
                <a:cubicBezTo>
                  <a:pt x="16021" y="14462"/>
                  <a:pt x="16520" y="14539"/>
                  <a:pt x="16321" y="14858"/>
                </a:cubicBezTo>
                <a:cubicBezTo>
                  <a:pt x="16217" y="14910"/>
                  <a:pt x="16179" y="14926"/>
                  <a:pt x="16098" y="14883"/>
                </a:cubicBezTo>
                <a:cubicBezTo>
                  <a:pt x="16159" y="14762"/>
                  <a:pt x="16357" y="14824"/>
                  <a:pt x="16470" y="14833"/>
                </a:cubicBezTo>
              </a:path>
              <a:path w="4540" h="894">
                <a:moveTo>
                  <a:pt x="16718" y="14585"/>
                </a:moveTo>
                <a:cubicBezTo>
                  <a:pt x="16627" y="14721"/>
                  <a:pt x="16589" y="14757"/>
                  <a:pt x="16669" y="14858"/>
                </a:cubicBezTo>
                <a:cubicBezTo>
                  <a:pt x="16787" y="14858"/>
                  <a:pt x="17366" y="14781"/>
                  <a:pt x="17041" y="14536"/>
                </a:cubicBezTo>
                <a:cubicBezTo>
                  <a:pt x="16983" y="14519"/>
                  <a:pt x="16925" y="14503"/>
                  <a:pt x="16867" y="14486"/>
                </a:cubicBezTo>
              </a:path>
              <a:path w="4540" h="894">
                <a:moveTo>
                  <a:pt x="17314" y="14362"/>
                </a:moveTo>
                <a:cubicBezTo>
                  <a:pt x="17195" y="14562"/>
                  <a:pt x="17125" y="14870"/>
                  <a:pt x="17512" y="14734"/>
                </a:cubicBezTo>
                <a:cubicBezTo>
                  <a:pt x="17640" y="14631"/>
                  <a:pt x="17681" y="14593"/>
                  <a:pt x="17611" y="14461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10120" y="5491080"/>
            <a:ext cx="1170000" cy="696960"/>
          </a:xfrm>
          <a:custGeom>
            <a:avLst/>
            <a:gdLst/>
            <a:ahLst/>
            <a:rect l="l" t="t" r="r" b="b"/>
            <a:pathLst>
              <a:path w="3251" h="1936">
                <a:moveTo>
                  <a:pt x="15032" y="16197"/>
                </a:moveTo>
                <a:cubicBezTo>
                  <a:pt x="15165" y="16242"/>
                  <a:pt x="15294" y="16429"/>
                  <a:pt x="15180" y="16594"/>
                </a:cubicBezTo>
                <a:cubicBezTo>
                  <a:pt x="15028" y="16814"/>
                  <a:pt x="14872" y="16651"/>
                  <a:pt x="14833" y="16495"/>
                </a:cubicBezTo>
                <a:cubicBezTo>
                  <a:pt x="15023" y="16394"/>
                  <a:pt x="15123" y="16482"/>
                  <a:pt x="15329" y="16570"/>
                </a:cubicBezTo>
              </a:path>
              <a:path w="3251" h="1936">
                <a:moveTo>
                  <a:pt x="15453" y="16148"/>
                </a:moveTo>
                <a:cubicBezTo>
                  <a:pt x="15361" y="16352"/>
                  <a:pt x="15336" y="16350"/>
                  <a:pt x="15453" y="16520"/>
                </a:cubicBezTo>
                <a:cubicBezTo>
                  <a:pt x="15607" y="16494"/>
                  <a:pt x="15979" y="16348"/>
                  <a:pt x="15627" y="16197"/>
                </a:cubicBezTo>
                <a:cubicBezTo>
                  <a:pt x="15586" y="16197"/>
                  <a:pt x="15544" y="16197"/>
                  <a:pt x="15503" y="16197"/>
                </a:cubicBezTo>
              </a:path>
              <a:path w="3251" h="1936">
                <a:moveTo>
                  <a:pt x="15949" y="16098"/>
                </a:moveTo>
                <a:cubicBezTo>
                  <a:pt x="15926" y="16252"/>
                  <a:pt x="15939" y="16677"/>
                  <a:pt x="16247" y="16421"/>
                </a:cubicBezTo>
                <a:cubicBezTo>
                  <a:pt x="16322" y="16269"/>
                  <a:pt x="16347" y="16216"/>
                  <a:pt x="16297" y="16098"/>
                </a:cubicBezTo>
              </a:path>
              <a:path w="3251" h="1936">
                <a:moveTo>
                  <a:pt x="14932" y="17090"/>
                </a:moveTo>
                <a:cubicBezTo>
                  <a:pt x="14843" y="16923"/>
                  <a:pt x="14806" y="16735"/>
                  <a:pt x="14709" y="16570"/>
                </a:cubicBezTo>
                <a:cubicBezTo>
                  <a:pt x="14644" y="16482"/>
                  <a:pt x="14634" y="16454"/>
                  <a:pt x="14560" y="16446"/>
                </a:cubicBezTo>
                <a:cubicBezTo>
                  <a:pt x="15056" y="16249"/>
                  <a:pt x="15571" y="16070"/>
                  <a:pt x="16098" y="15974"/>
                </a:cubicBezTo>
                <a:cubicBezTo>
                  <a:pt x="16313" y="15954"/>
                  <a:pt x="16345" y="15946"/>
                  <a:pt x="16470" y="15949"/>
                </a:cubicBezTo>
              </a:path>
              <a:path w="3251" h="1936">
                <a:moveTo>
                  <a:pt x="13915" y="16718"/>
                </a:moveTo>
                <a:cubicBezTo>
                  <a:pt x="13946" y="16876"/>
                  <a:pt x="13981" y="17033"/>
                  <a:pt x="14015" y="17190"/>
                </a:cubicBezTo>
              </a:path>
              <a:path w="3251" h="1936">
                <a:moveTo>
                  <a:pt x="14288" y="16570"/>
                </a:moveTo>
                <a:cubicBezTo>
                  <a:pt x="14256" y="16611"/>
                  <a:pt x="14164" y="16703"/>
                  <a:pt x="14163" y="16718"/>
                </a:cubicBezTo>
                <a:cubicBezTo>
                  <a:pt x="14163" y="16818"/>
                  <a:pt x="14163" y="16851"/>
                  <a:pt x="14163" y="16917"/>
                </a:cubicBezTo>
                <a:cubicBezTo>
                  <a:pt x="14280" y="16858"/>
                  <a:pt x="14299" y="16717"/>
                  <a:pt x="14461" y="16793"/>
                </a:cubicBezTo>
                <a:cubicBezTo>
                  <a:pt x="14620" y="16867"/>
                  <a:pt x="14692" y="17154"/>
                  <a:pt x="14461" y="17190"/>
                </a:cubicBezTo>
                <a:cubicBezTo>
                  <a:pt x="14420" y="17182"/>
                  <a:pt x="14378" y="17173"/>
                  <a:pt x="14337" y="17165"/>
                </a:cubicBezTo>
              </a:path>
              <a:path w="3251" h="1936">
                <a:moveTo>
                  <a:pt x="15503" y="15602"/>
                </a:moveTo>
                <a:cubicBezTo>
                  <a:pt x="15529" y="15751"/>
                  <a:pt x="15552" y="15900"/>
                  <a:pt x="15577" y="16049"/>
                </a:cubicBezTo>
              </a:path>
              <a:path w="3251" h="1936">
                <a:moveTo>
                  <a:pt x="15925" y="15429"/>
                </a:moveTo>
                <a:cubicBezTo>
                  <a:pt x="15965" y="15483"/>
                  <a:pt x="15948" y="15514"/>
                  <a:pt x="15925" y="15577"/>
                </a:cubicBezTo>
                <a:cubicBezTo>
                  <a:pt x="15987" y="15523"/>
                  <a:pt x="16236" y="15307"/>
                  <a:pt x="16197" y="15577"/>
                </a:cubicBezTo>
                <a:cubicBezTo>
                  <a:pt x="16154" y="15665"/>
                  <a:pt x="16148" y="15688"/>
                  <a:pt x="16098" y="15726"/>
                </a:cubicBezTo>
                <a:cubicBezTo>
                  <a:pt x="16098" y="15622"/>
                  <a:pt x="16155" y="15687"/>
                  <a:pt x="16272" y="15726"/>
                </a:cubicBezTo>
                <a:cubicBezTo>
                  <a:pt x="16272" y="15837"/>
                  <a:pt x="16208" y="16071"/>
                  <a:pt x="16024" y="15949"/>
                </a:cubicBezTo>
                <a:cubicBezTo>
                  <a:pt x="16007" y="15924"/>
                  <a:pt x="15991" y="15900"/>
                  <a:pt x="15974" y="15875"/>
                </a:cubicBezTo>
              </a:path>
              <a:path w="3251" h="1936">
                <a:moveTo>
                  <a:pt x="16470" y="15751"/>
                </a:moveTo>
                <a:cubicBezTo>
                  <a:pt x="16478" y="15776"/>
                  <a:pt x="16487" y="15800"/>
                  <a:pt x="16495" y="15825"/>
                </a:cubicBezTo>
              </a:path>
              <a:path w="3251" h="1936">
                <a:moveTo>
                  <a:pt x="16694" y="15478"/>
                </a:moveTo>
                <a:cubicBezTo>
                  <a:pt x="16805" y="15441"/>
                  <a:pt x="17073" y="15323"/>
                  <a:pt x="16991" y="15577"/>
                </a:cubicBezTo>
                <a:cubicBezTo>
                  <a:pt x="16966" y="15610"/>
                  <a:pt x="16942" y="15644"/>
                  <a:pt x="16917" y="15677"/>
                </a:cubicBezTo>
                <a:cubicBezTo>
                  <a:pt x="16909" y="15685"/>
                  <a:pt x="16900" y="15693"/>
                  <a:pt x="16892" y="15701"/>
                </a:cubicBezTo>
                <a:cubicBezTo>
                  <a:pt x="16965" y="15598"/>
                  <a:pt x="17135" y="15550"/>
                  <a:pt x="17165" y="15751"/>
                </a:cubicBezTo>
                <a:cubicBezTo>
                  <a:pt x="17193" y="15942"/>
                  <a:pt x="16905" y="15987"/>
                  <a:pt x="16793" y="15900"/>
                </a:cubicBezTo>
                <a:cubicBezTo>
                  <a:pt x="16776" y="15867"/>
                  <a:pt x="16760" y="15834"/>
                  <a:pt x="16743" y="15801"/>
                </a:cubicBezTo>
              </a:path>
              <a:path w="3251" h="1936">
                <a:moveTo>
                  <a:pt x="16694" y="15304"/>
                </a:moveTo>
                <a:cubicBezTo>
                  <a:pt x="16783" y="15275"/>
                  <a:pt x="16824" y="15264"/>
                  <a:pt x="16892" y="1525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8080" y="5680080"/>
            <a:ext cx="36720" cy="169920"/>
          </a:xfrm>
          <a:custGeom>
            <a:avLst/>
            <a:gdLst/>
            <a:ahLst/>
            <a:rect l="l" t="t" r="r" b="b"/>
            <a:pathLst>
              <a:path w="101" h="472">
                <a:moveTo>
                  <a:pt x="8930" y="15776"/>
                </a:moveTo>
                <a:cubicBezTo>
                  <a:pt x="8906" y="15943"/>
                  <a:pt x="8881" y="16088"/>
                  <a:pt x="8830" y="16247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21000" y="5661000"/>
            <a:ext cx="260280" cy="142920"/>
          </a:xfrm>
          <a:custGeom>
            <a:avLst/>
            <a:gdLst/>
            <a:ahLst/>
            <a:rect l="l" t="t" r="r" b="b"/>
            <a:pathLst>
              <a:path w="721" h="398">
                <a:moveTo>
                  <a:pt x="9302" y="15850"/>
                </a:moveTo>
                <a:cubicBezTo>
                  <a:pt x="9258" y="15981"/>
                  <a:pt x="9242" y="16011"/>
                  <a:pt x="9252" y="16098"/>
                </a:cubicBezTo>
                <a:cubicBezTo>
                  <a:pt x="9350" y="16105"/>
                  <a:pt x="9661" y="16036"/>
                  <a:pt x="9500" y="15850"/>
                </a:cubicBezTo>
                <a:cubicBezTo>
                  <a:pt x="9394" y="15728"/>
                  <a:pt x="9277" y="15826"/>
                  <a:pt x="9277" y="15850"/>
                </a:cubicBezTo>
              </a:path>
              <a:path w="721" h="398">
                <a:moveTo>
                  <a:pt x="9599" y="15825"/>
                </a:moveTo>
                <a:cubicBezTo>
                  <a:pt x="9592" y="15985"/>
                  <a:pt x="9663" y="16300"/>
                  <a:pt x="9897" y="16073"/>
                </a:cubicBezTo>
                <a:cubicBezTo>
                  <a:pt x="10058" y="15917"/>
                  <a:pt x="9840" y="15803"/>
                  <a:pt x="9748" y="15726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70200" y="5589720"/>
            <a:ext cx="277920" cy="196560"/>
          </a:xfrm>
          <a:custGeom>
            <a:avLst/>
            <a:gdLst/>
            <a:ahLst/>
            <a:rect l="l" t="t" r="r" b="b"/>
            <a:pathLst>
              <a:path w="770" h="546">
                <a:moveTo>
                  <a:pt x="10294" y="15528"/>
                </a:moveTo>
                <a:cubicBezTo>
                  <a:pt x="10117" y="15779"/>
                  <a:pt x="10262" y="15752"/>
                  <a:pt x="10368" y="15999"/>
                </a:cubicBezTo>
                <a:cubicBezTo>
                  <a:pt x="10368" y="16024"/>
                  <a:pt x="10368" y="16048"/>
                  <a:pt x="10368" y="16073"/>
                </a:cubicBezTo>
              </a:path>
              <a:path w="770" h="546">
                <a:moveTo>
                  <a:pt x="10319" y="15875"/>
                </a:moveTo>
                <a:cubicBezTo>
                  <a:pt x="10369" y="15867"/>
                  <a:pt x="10418" y="15858"/>
                  <a:pt x="10468" y="15850"/>
                </a:cubicBezTo>
              </a:path>
              <a:path w="770" h="546">
                <a:moveTo>
                  <a:pt x="10666" y="15602"/>
                </a:moveTo>
                <a:cubicBezTo>
                  <a:pt x="10711" y="15725"/>
                  <a:pt x="10641" y="15903"/>
                  <a:pt x="10691" y="15999"/>
                </a:cubicBezTo>
                <a:cubicBezTo>
                  <a:pt x="10757" y="15999"/>
                  <a:pt x="10790" y="15999"/>
                  <a:pt x="10840" y="15999"/>
                </a:cubicBezTo>
              </a:path>
              <a:path w="770" h="546">
                <a:moveTo>
                  <a:pt x="10616" y="15801"/>
                </a:moveTo>
                <a:cubicBezTo>
                  <a:pt x="10804" y="15777"/>
                  <a:pt x="10860" y="15774"/>
                  <a:pt x="10964" y="15701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56200" y="5911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545" y="16421"/>
                </a:moveTo>
                <a:lnTo>
                  <a:pt x="16545" y="16421"/>
                </a:ln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62760" y="5803920"/>
            <a:ext cx="117360" cy="125280"/>
          </a:xfrm>
          <a:custGeom>
            <a:avLst/>
            <a:gdLst/>
            <a:ahLst/>
            <a:rect l="l" t="t" r="r" b="b"/>
            <a:pathLst>
              <a:path w="324" h="348">
                <a:moveTo>
                  <a:pt x="16942" y="16123"/>
                </a:moveTo>
                <a:cubicBezTo>
                  <a:pt x="16865" y="16171"/>
                  <a:pt x="16765" y="16344"/>
                  <a:pt x="16892" y="16446"/>
                </a:cubicBezTo>
                <a:cubicBezTo>
                  <a:pt x="17026" y="16554"/>
                  <a:pt x="17231" y="16369"/>
                  <a:pt x="17140" y="16222"/>
                </a:cubicBezTo>
                <a:cubicBezTo>
                  <a:pt x="17063" y="16171"/>
                  <a:pt x="17034" y="16155"/>
                  <a:pt x="16966" y="16173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44800" y="5510160"/>
            <a:ext cx="822240" cy="411120"/>
          </a:xfrm>
          <a:custGeom>
            <a:avLst/>
            <a:gdLst/>
            <a:ahLst/>
            <a:rect l="l" t="t" r="r" b="b"/>
            <a:pathLst>
              <a:path w="2283" h="1143">
                <a:moveTo>
                  <a:pt x="5680" y="16024"/>
                </a:moveTo>
                <a:cubicBezTo>
                  <a:pt x="5713" y="16170"/>
                  <a:pt x="5744" y="16297"/>
                  <a:pt x="5755" y="16446"/>
                </a:cubicBezTo>
              </a:path>
              <a:path w="2283" h="1143">
                <a:moveTo>
                  <a:pt x="6127" y="15900"/>
                </a:moveTo>
                <a:cubicBezTo>
                  <a:pt x="6060" y="15966"/>
                  <a:pt x="5938" y="16019"/>
                  <a:pt x="5928" y="16073"/>
                </a:cubicBezTo>
                <a:cubicBezTo>
                  <a:pt x="5928" y="16090"/>
                  <a:pt x="5928" y="16106"/>
                  <a:pt x="5928" y="16123"/>
                </a:cubicBezTo>
                <a:cubicBezTo>
                  <a:pt x="6154" y="16051"/>
                  <a:pt x="6275" y="16023"/>
                  <a:pt x="6474" y="16148"/>
                </a:cubicBezTo>
                <a:cubicBezTo>
                  <a:pt x="6422" y="16343"/>
                  <a:pt x="6416" y="16295"/>
                  <a:pt x="6201" y="16321"/>
                </a:cubicBezTo>
              </a:path>
              <a:path w="2283" h="1143">
                <a:moveTo>
                  <a:pt x="6871" y="15776"/>
                </a:moveTo>
                <a:cubicBezTo>
                  <a:pt x="6665" y="15793"/>
                  <a:pt x="6683" y="15866"/>
                  <a:pt x="6772" y="16049"/>
                </a:cubicBezTo>
                <a:cubicBezTo>
                  <a:pt x="6833" y="16152"/>
                  <a:pt x="6840" y="16176"/>
                  <a:pt x="6896" y="16222"/>
                </a:cubicBezTo>
              </a:path>
              <a:path w="2283" h="1143">
                <a:moveTo>
                  <a:pt x="6722" y="16024"/>
                </a:moveTo>
                <a:cubicBezTo>
                  <a:pt x="6796" y="16016"/>
                  <a:pt x="6871" y="16007"/>
                  <a:pt x="6945" y="15999"/>
                </a:cubicBezTo>
              </a:path>
              <a:path w="2283" h="1143">
                <a:moveTo>
                  <a:pt x="7069" y="15825"/>
                </a:moveTo>
                <a:cubicBezTo>
                  <a:pt x="7124" y="15940"/>
                  <a:pt x="7154" y="16028"/>
                  <a:pt x="7193" y="16148"/>
                </a:cubicBezTo>
                <a:cubicBezTo>
                  <a:pt x="7296" y="16135"/>
                  <a:pt x="7348" y="16112"/>
                  <a:pt x="7441" y="16073"/>
                </a:cubicBezTo>
              </a:path>
              <a:path w="2283" h="1143">
                <a:moveTo>
                  <a:pt x="7218" y="15974"/>
                </a:moveTo>
                <a:cubicBezTo>
                  <a:pt x="7268" y="15958"/>
                  <a:pt x="7317" y="15941"/>
                  <a:pt x="7367" y="15925"/>
                </a:cubicBezTo>
              </a:path>
              <a:path w="2283" h="1143">
                <a:moveTo>
                  <a:pt x="7764" y="15354"/>
                </a:moveTo>
                <a:cubicBezTo>
                  <a:pt x="7872" y="15332"/>
                  <a:pt x="7898" y="15329"/>
                  <a:pt x="7962" y="15304"/>
                </a:cubicBezTo>
              </a:path>
              <a:path w="2283" h="1143">
                <a:moveTo>
                  <a:pt x="7938" y="15478"/>
                </a:moveTo>
                <a:lnTo>
                  <a:pt x="7938" y="15478"/>
                </a:ln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8080" y="5491080"/>
            <a:ext cx="420840" cy="100080"/>
          </a:xfrm>
          <a:custGeom>
            <a:avLst/>
            <a:gdLst/>
            <a:ahLst/>
            <a:rect l="l" t="t" r="r" b="b"/>
            <a:pathLst>
              <a:path w="1167" h="274">
                <a:moveTo>
                  <a:pt x="8830" y="15528"/>
                </a:moveTo>
                <a:cubicBezTo>
                  <a:pt x="9137" y="15413"/>
                  <a:pt x="9448" y="15335"/>
                  <a:pt x="9773" y="15280"/>
                </a:cubicBezTo>
                <a:cubicBezTo>
                  <a:pt x="9847" y="15272"/>
                  <a:pt x="9922" y="15263"/>
                  <a:pt x="9996" y="1525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30760" y="3321000"/>
            <a:ext cx="393480" cy="179280"/>
          </a:xfrm>
          <a:custGeom>
            <a:avLst/>
            <a:gdLst/>
            <a:ahLst/>
            <a:rect l="l" t="t" r="r" b="b"/>
            <a:pathLst>
              <a:path w="1093" h="497">
                <a:moveTo>
                  <a:pt x="10641" y="9252"/>
                </a:moveTo>
                <a:cubicBezTo>
                  <a:pt x="10950" y="9396"/>
                  <a:pt x="11261" y="9469"/>
                  <a:pt x="11584" y="9575"/>
                </a:cubicBezTo>
                <a:cubicBezTo>
                  <a:pt x="11625" y="9591"/>
                  <a:pt x="11667" y="9608"/>
                  <a:pt x="11708" y="9624"/>
                </a:cubicBezTo>
                <a:cubicBezTo>
                  <a:pt x="11411" y="9533"/>
                  <a:pt x="11087" y="9497"/>
                  <a:pt x="10840" y="9302"/>
                </a:cubicBezTo>
                <a:cubicBezTo>
                  <a:pt x="10632" y="9138"/>
                  <a:pt x="11150" y="9477"/>
                  <a:pt x="11385" y="9599"/>
                </a:cubicBezTo>
                <a:cubicBezTo>
                  <a:pt x="11537" y="9678"/>
                  <a:pt x="11926" y="9825"/>
                  <a:pt x="11509" y="9575"/>
                </a:cubicBezTo>
                <a:cubicBezTo>
                  <a:pt x="11274" y="9434"/>
                  <a:pt x="11079" y="9366"/>
                  <a:pt x="10815" y="9327"/>
                </a:cubicBezTo>
                <a:cubicBezTo>
                  <a:pt x="11077" y="9457"/>
                  <a:pt x="11428" y="9634"/>
                  <a:pt x="11733" y="9575"/>
                </a:cubicBezTo>
                <a:cubicBezTo>
                  <a:pt x="11682" y="9524"/>
                  <a:pt x="11664" y="9508"/>
                  <a:pt x="11609" y="952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46240" y="3446640"/>
            <a:ext cx="393840" cy="492120"/>
          </a:xfrm>
          <a:custGeom>
            <a:avLst/>
            <a:gdLst/>
            <a:ahLst/>
            <a:rect l="l" t="t" r="r" b="b"/>
            <a:pathLst>
              <a:path w="1092" h="1365">
                <a:moveTo>
                  <a:pt x="8607" y="10517"/>
                </a:moveTo>
                <a:cubicBezTo>
                  <a:pt x="8643" y="10679"/>
                  <a:pt x="8785" y="10713"/>
                  <a:pt x="8954" y="10641"/>
                </a:cubicBezTo>
                <a:cubicBezTo>
                  <a:pt x="9248" y="10515"/>
                  <a:pt x="9332" y="10150"/>
                  <a:pt x="9227" y="9872"/>
                </a:cubicBezTo>
                <a:cubicBezTo>
                  <a:pt x="9051" y="9406"/>
                  <a:pt x="8685" y="9593"/>
                  <a:pt x="8458" y="9872"/>
                </a:cubicBezTo>
                <a:cubicBezTo>
                  <a:pt x="8021" y="10408"/>
                  <a:pt x="8185" y="10639"/>
                  <a:pt x="8682" y="10939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29160" y="6000840"/>
            <a:ext cx="1000080" cy="625320"/>
          </a:xfrm>
          <a:custGeom>
            <a:avLst/>
            <a:gdLst/>
            <a:ahLst/>
            <a:rect l="l" t="t" r="r" b="b"/>
            <a:pathLst>
              <a:path w="2779" h="1737">
                <a:moveTo>
                  <a:pt x="15081" y="16867"/>
                </a:moveTo>
                <a:cubicBezTo>
                  <a:pt x="15126" y="16878"/>
                  <a:pt x="15133" y="16948"/>
                  <a:pt x="15156" y="17041"/>
                </a:cubicBezTo>
              </a:path>
              <a:path w="2779" h="1737">
                <a:moveTo>
                  <a:pt x="15379" y="16743"/>
                </a:moveTo>
                <a:cubicBezTo>
                  <a:pt x="15396" y="16875"/>
                  <a:pt x="15452" y="16842"/>
                  <a:pt x="15577" y="16842"/>
                </a:cubicBezTo>
              </a:path>
              <a:path w="2779" h="1737">
                <a:moveTo>
                  <a:pt x="15453" y="16718"/>
                </a:moveTo>
                <a:cubicBezTo>
                  <a:pt x="15478" y="16702"/>
                  <a:pt x="15503" y="16685"/>
                  <a:pt x="15528" y="16669"/>
                </a:cubicBezTo>
              </a:path>
              <a:path w="2779" h="1737">
                <a:moveTo>
                  <a:pt x="15404" y="17165"/>
                </a:moveTo>
                <a:cubicBezTo>
                  <a:pt x="15545" y="17084"/>
                  <a:pt x="15573" y="17071"/>
                  <a:pt x="15652" y="17016"/>
                </a:cubicBezTo>
              </a:path>
              <a:path w="2779" h="1737">
                <a:moveTo>
                  <a:pt x="15528" y="17140"/>
                </a:moveTo>
                <a:cubicBezTo>
                  <a:pt x="15509" y="17214"/>
                  <a:pt x="15501" y="17221"/>
                  <a:pt x="15503" y="17264"/>
                </a:cubicBezTo>
                <a:cubicBezTo>
                  <a:pt x="15590" y="17254"/>
                  <a:pt x="15695" y="17209"/>
                  <a:pt x="15751" y="17314"/>
                </a:cubicBezTo>
                <a:cubicBezTo>
                  <a:pt x="15817" y="17438"/>
                  <a:pt x="15594" y="17420"/>
                  <a:pt x="15553" y="17413"/>
                </a:cubicBezTo>
              </a:path>
              <a:path w="2779" h="1737">
                <a:moveTo>
                  <a:pt x="15627" y="17140"/>
                </a:moveTo>
                <a:cubicBezTo>
                  <a:pt x="15736" y="17085"/>
                  <a:pt x="15798" y="17050"/>
                  <a:pt x="15875" y="16966"/>
                </a:cubicBezTo>
                <a:cubicBezTo>
                  <a:pt x="15898" y="16944"/>
                  <a:pt x="15903" y="16936"/>
                  <a:pt x="15925" y="16942"/>
                </a:cubicBezTo>
              </a:path>
              <a:path w="2779" h="1737">
                <a:moveTo>
                  <a:pt x="16024" y="16966"/>
                </a:moveTo>
                <a:cubicBezTo>
                  <a:pt x="15994" y="17042"/>
                  <a:pt x="15965" y="17113"/>
                  <a:pt x="15949" y="17190"/>
                </a:cubicBezTo>
                <a:cubicBezTo>
                  <a:pt x="16002" y="17221"/>
                  <a:pt x="16212" y="17306"/>
                  <a:pt x="16222" y="17165"/>
                </a:cubicBezTo>
                <a:cubicBezTo>
                  <a:pt x="16232" y="17028"/>
                  <a:pt x="16119" y="17023"/>
                  <a:pt x="16024" y="16991"/>
                </a:cubicBezTo>
              </a:path>
              <a:path w="2779" h="1737">
                <a:moveTo>
                  <a:pt x="15776" y="17587"/>
                </a:moveTo>
                <a:cubicBezTo>
                  <a:pt x="15723" y="17674"/>
                  <a:pt x="15762" y="17677"/>
                  <a:pt x="15850" y="17686"/>
                </a:cubicBezTo>
              </a:path>
              <a:path w="2779" h="1737">
                <a:moveTo>
                  <a:pt x="15875" y="17537"/>
                </a:moveTo>
                <a:cubicBezTo>
                  <a:pt x="15898" y="17629"/>
                  <a:pt x="15904" y="17654"/>
                  <a:pt x="15925" y="17711"/>
                </a:cubicBezTo>
              </a:path>
              <a:path w="2779" h="1737">
                <a:moveTo>
                  <a:pt x="16049" y="17487"/>
                </a:moveTo>
                <a:cubicBezTo>
                  <a:pt x="16179" y="17518"/>
                  <a:pt x="16212" y="17485"/>
                  <a:pt x="16197" y="17587"/>
                </a:cubicBezTo>
              </a:path>
              <a:path w="2779" h="1737">
                <a:moveTo>
                  <a:pt x="16098" y="17388"/>
                </a:moveTo>
                <a:cubicBezTo>
                  <a:pt x="16169" y="17341"/>
                  <a:pt x="16188" y="17324"/>
                  <a:pt x="16247" y="17338"/>
                </a:cubicBezTo>
              </a:path>
              <a:path w="2779" h="1737">
                <a:moveTo>
                  <a:pt x="16470" y="17438"/>
                </a:moveTo>
                <a:cubicBezTo>
                  <a:pt x="16363" y="17588"/>
                  <a:pt x="16246" y="17719"/>
                  <a:pt x="16123" y="17859"/>
                </a:cubicBezTo>
              </a:path>
              <a:path w="2779" h="1737">
                <a:moveTo>
                  <a:pt x="16495" y="17636"/>
                </a:moveTo>
                <a:cubicBezTo>
                  <a:pt x="16495" y="17774"/>
                  <a:pt x="16537" y="17702"/>
                  <a:pt x="16619" y="17785"/>
                </a:cubicBezTo>
                <a:cubicBezTo>
                  <a:pt x="16651" y="17850"/>
                  <a:pt x="16648" y="17878"/>
                  <a:pt x="16570" y="17909"/>
                </a:cubicBezTo>
              </a:path>
              <a:path w="2779" h="1737">
                <a:moveTo>
                  <a:pt x="16520" y="17636"/>
                </a:moveTo>
                <a:cubicBezTo>
                  <a:pt x="16545" y="17620"/>
                  <a:pt x="16569" y="17603"/>
                  <a:pt x="16594" y="17587"/>
                </a:cubicBezTo>
              </a:path>
              <a:path w="2779" h="1737">
                <a:moveTo>
                  <a:pt x="16892" y="17487"/>
                </a:moveTo>
                <a:cubicBezTo>
                  <a:pt x="16862" y="17608"/>
                  <a:pt x="16842" y="17710"/>
                  <a:pt x="16842" y="17835"/>
                </a:cubicBezTo>
                <a:cubicBezTo>
                  <a:pt x="16967" y="17814"/>
                  <a:pt x="17105" y="17729"/>
                  <a:pt x="17041" y="17562"/>
                </a:cubicBezTo>
                <a:cubicBezTo>
                  <a:pt x="17016" y="17537"/>
                  <a:pt x="16991" y="17512"/>
                  <a:pt x="16966" y="17487"/>
                </a:cubicBezTo>
              </a:path>
              <a:path w="2779" h="1737">
                <a:moveTo>
                  <a:pt x="16718" y="18058"/>
                </a:moveTo>
                <a:cubicBezTo>
                  <a:pt x="16718" y="18125"/>
                  <a:pt x="16715" y="18169"/>
                  <a:pt x="16743" y="18231"/>
                </a:cubicBezTo>
                <a:cubicBezTo>
                  <a:pt x="16786" y="18328"/>
                  <a:pt x="16799" y="18299"/>
                  <a:pt x="16867" y="18256"/>
                </a:cubicBezTo>
              </a:path>
              <a:path w="2779" h="1737">
                <a:moveTo>
                  <a:pt x="16917" y="18033"/>
                </a:moveTo>
                <a:cubicBezTo>
                  <a:pt x="16917" y="18132"/>
                  <a:pt x="16917" y="18165"/>
                  <a:pt x="16917" y="18231"/>
                </a:cubicBezTo>
              </a:path>
              <a:path w="2779" h="1737">
                <a:moveTo>
                  <a:pt x="17066" y="17934"/>
                </a:moveTo>
                <a:cubicBezTo>
                  <a:pt x="17092" y="17945"/>
                  <a:pt x="17352" y="18007"/>
                  <a:pt x="17289" y="18083"/>
                </a:cubicBezTo>
                <a:cubicBezTo>
                  <a:pt x="17264" y="18099"/>
                  <a:pt x="17239" y="18116"/>
                  <a:pt x="17214" y="18132"/>
                </a:cubicBezTo>
              </a:path>
              <a:path w="2779" h="1737">
                <a:moveTo>
                  <a:pt x="17115" y="17934"/>
                </a:moveTo>
                <a:cubicBezTo>
                  <a:pt x="17148" y="17917"/>
                  <a:pt x="17181" y="17901"/>
                  <a:pt x="17214" y="17884"/>
                </a:cubicBezTo>
              </a:path>
              <a:path w="2779" h="1737">
                <a:moveTo>
                  <a:pt x="17462" y="17983"/>
                </a:moveTo>
                <a:cubicBezTo>
                  <a:pt x="17407" y="18149"/>
                  <a:pt x="17360" y="18261"/>
                  <a:pt x="17264" y="18405"/>
                </a:cubicBezTo>
              </a:path>
              <a:path w="2779" h="1737">
                <a:moveTo>
                  <a:pt x="17537" y="18083"/>
                </a:moveTo>
                <a:cubicBezTo>
                  <a:pt x="17599" y="18114"/>
                  <a:pt x="17831" y="18142"/>
                  <a:pt x="17835" y="18207"/>
                </a:cubicBezTo>
                <a:cubicBezTo>
                  <a:pt x="17827" y="18223"/>
                  <a:pt x="17818" y="18240"/>
                  <a:pt x="17810" y="18256"/>
                </a:cubicBezTo>
              </a:path>
              <a:path w="2779" h="1737">
                <a:moveTo>
                  <a:pt x="17735" y="17934"/>
                </a:moveTo>
                <a:cubicBezTo>
                  <a:pt x="17776" y="17926"/>
                  <a:pt x="17818" y="17917"/>
                  <a:pt x="17859" y="17909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49960" y="5607000"/>
            <a:ext cx="268200" cy="90360"/>
          </a:xfrm>
          <a:custGeom>
            <a:avLst/>
            <a:gdLst/>
            <a:ahLst/>
            <a:rect l="l" t="t" r="r" b="b"/>
            <a:pathLst>
              <a:path w="745" h="249">
                <a:moveTo>
                  <a:pt x="17363" y="15751"/>
                </a:moveTo>
                <a:cubicBezTo>
                  <a:pt x="17363" y="15679"/>
                  <a:pt x="17397" y="15801"/>
                  <a:pt x="17413" y="15825"/>
                </a:cubicBezTo>
              </a:path>
              <a:path w="745" h="249">
                <a:moveTo>
                  <a:pt x="17388" y="15577"/>
                </a:moveTo>
                <a:lnTo>
                  <a:pt x="17388" y="15577"/>
                </a:lnTo>
              </a:path>
              <a:path w="745" h="249">
                <a:moveTo>
                  <a:pt x="17686" y="15751"/>
                </a:moveTo>
                <a:cubicBezTo>
                  <a:pt x="17735" y="15776"/>
                  <a:pt x="17751" y="15784"/>
                  <a:pt x="17760" y="15825"/>
                </a:cubicBezTo>
                <a:cubicBezTo>
                  <a:pt x="17746" y="15751"/>
                  <a:pt x="17676" y="15530"/>
                  <a:pt x="17859" y="15577"/>
                </a:cubicBezTo>
                <a:cubicBezTo>
                  <a:pt x="18017" y="15618"/>
                  <a:pt x="18068" y="15697"/>
                  <a:pt x="18107" y="1582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97800" y="5438880"/>
            <a:ext cx="438120" cy="204840"/>
          </a:xfrm>
          <a:custGeom>
            <a:avLst/>
            <a:gdLst/>
            <a:ahLst/>
            <a:rect l="l" t="t" r="r" b="b"/>
            <a:pathLst>
              <a:path w="1216" h="572">
                <a:moveTo>
                  <a:pt x="18604" y="15503"/>
                </a:moveTo>
                <a:cubicBezTo>
                  <a:pt x="18720" y="15462"/>
                  <a:pt x="18804" y="15437"/>
                  <a:pt x="18926" y="15429"/>
                </a:cubicBezTo>
              </a:path>
              <a:path w="1216" h="572">
                <a:moveTo>
                  <a:pt x="18703" y="15627"/>
                </a:moveTo>
                <a:cubicBezTo>
                  <a:pt x="18778" y="15627"/>
                  <a:pt x="18819" y="15622"/>
                  <a:pt x="18876" y="15602"/>
                </a:cubicBezTo>
              </a:path>
              <a:path w="1216" h="572">
                <a:moveTo>
                  <a:pt x="19248" y="15255"/>
                </a:moveTo>
                <a:cubicBezTo>
                  <a:pt x="19298" y="15385"/>
                  <a:pt x="19333" y="15490"/>
                  <a:pt x="19348" y="15627"/>
                </a:cubicBezTo>
              </a:path>
              <a:path w="1216" h="572">
                <a:moveTo>
                  <a:pt x="19224" y="15280"/>
                </a:moveTo>
                <a:cubicBezTo>
                  <a:pt x="19413" y="15359"/>
                  <a:pt x="19612" y="15532"/>
                  <a:pt x="19794" y="15652"/>
                </a:cubicBezTo>
                <a:cubicBezTo>
                  <a:pt x="19802" y="15660"/>
                  <a:pt x="19811" y="15669"/>
                  <a:pt x="19819" y="15677"/>
                </a:cubicBezTo>
                <a:cubicBezTo>
                  <a:pt x="19802" y="15495"/>
                  <a:pt x="19785" y="15314"/>
                  <a:pt x="19769" y="15131"/>
                </a:cubicBezTo>
                <a:cubicBezTo>
                  <a:pt x="19769" y="15123"/>
                  <a:pt x="19769" y="15114"/>
                  <a:pt x="19769" y="15106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1120" y="1023840"/>
            <a:ext cx="9594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ps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93760"/>
            <a:ext cx="8458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:  Students will use ratio/proportion to create scale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rawings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ing the Scale of a Map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80960" y="1409760"/>
            <a:ext cx="8172360" cy="4000320"/>
            <a:chOff x="480960" y="1409760"/>
            <a:chExt cx="8172360" cy="4000320"/>
          </a:xfrm>
        </p:grpSpPr>
        <p:sp>
          <p:nvSpPr>
            <p:cNvPr id="161" name=""/>
            <p:cNvSpPr/>
            <p:nvPr/>
          </p:nvSpPr>
          <p:spPr>
            <a:xfrm>
              <a:off x="480960" y="1409760"/>
              <a:ext cx="805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"/>
                </a:rPr>
                <a:t>Use the map of Maine to find the distance between the towns of China and New Sweden.</a:t>
              </a:r>
              <a:endParaRPr b="0" lang="en-US" sz="24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248520" y="1900080"/>
              <a:ext cx="2404800" cy="351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>
            <a:off x="495360" y="466884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Write and solve a proportion to find the actual distance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between the towns.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4160" y="266760"/>
            <a:ext cx="21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9640" y="1676520"/>
            <a:ext cx="1272240" cy="882000"/>
            <a:chOff x="539640" y="1676520"/>
            <a:chExt cx="1272240" cy="882000"/>
          </a:xfrm>
        </p:grpSpPr>
        <p:grpSp>
          <p:nvGrpSpPr>
            <p:cNvPr id="168" name=""/>
            <p:cNvGrpSpPr/>
            <p:nvPr/>
          </p:nvGrpSpPr>
          <p:grpSpPr>
            <a:xfrm>
              <a:off x="539640" y="1676520"/>
              <a:ext cx="485640" cy="870480"/>
              <a:chOff x="539640" y="1676520"/>
              <a:chExt cx="485640" cy="870480"/>
            </a:xfrm>
          </p:grpSpPr>
          <p:sp>
            <p:nvSpPr>
              <p:cNvPr id="169" name=""/>
              <p:cNvSpPr/>
              <p:nvPr/>
            </p:nvSpPr>
            <p:spPr>
              <a:xfrm>
                <a:off x="632160" y="1676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eae8e2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8800" y="2174760"/>
                <a:ext cx="2023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8e2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9640" y="20872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65</a:t>
                </a:r>
                <a:endParaRPr b="0" lang="en-US" sz="2400" spc="-1" strike="noStrike">
                  <a:solidFill>
                    <a:srgbClr val="eae8e2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241280" y="1688760"/>
              <a:ext cx="570600" cy="869760"/>
              <a:chOff x="1241280" y="1688760"/>
              <a:chExt cx="570600" cy="869760"/>
            </a:xfrm>
          </p:grpSpPr>
          <p:sp>
            <p:nvSpPr>
              <p:cNvPr id="173" name=""/>
              <p:cNvSpPr/>
              <p:nvPr/>
            </p:nvSpPr>
            <p:spPr>
              <a:xfrm>
                <a:off x="1250280" y="16887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4.5</a:t>
                </a:r>
                <a:endParaRPr b="0" lang="en-US" sz="2400" spc="-1" strike="noStrike">
                  <a:solidFill>
                    <a:srgbClr val="eae8e2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9720" y="2187000"/>
                <a:ext cx="2023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8e2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41280" y="2098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3333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eae8e2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960840" y="1884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eae8e2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4960" y="2666880"/>
            <a:ext cx="2276640" cy="469440"/>
            <a:chOff x="534960" y="2666880"/>
            <a:chExt cx="2276640" cy="469440"/>
          </a:xfrm>
        </p:grpSpPr>
        <p:sp>
          <p:nvSpPr>
            <p:cNvPr id="178" name=""/>
            <p:cNvSpPr/>
            <p:nvPr/>
          </p:nvSpPr>
          <p:spPr>
            <a:xfrm>
              <a:off x="534960" y="2666880"/>
              <a:ext cx="96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   </a:t>
              </a: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24160" y="2676600"/>
              <a:ext cx="138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5   4.5</a:t>
              </a:r>
              <a:endParaRPr b="0" lang="en-US" sz="24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820800" y="28749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1849320" y="288432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458280" y="342900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= 292.5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133360" y="1752480"/>
            <a:ext cx="2242800" cy="609480"/>
            <a:chOff x="2133360" y="1752480"/>
            <a:chExt cx="2242800" cy="609480"/>
          </a:xfrm>
        </p:grpSpPr>
        <p:sp>
          <p:nvSpPr>
            <p:cNvPr id="184" name=""/>
            <p:cNvSpPr/>
            <p:nvPr/>
          </p:nvSpPr>
          <p:spPr>
            <a:xfrm>
              <a:off x="2765880" y="195012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82e"/>
                  </a:solidFill>
                  <a:latin typeface="Arial"/>
                </a:rPr>
                <a:t>centimeters</a:t>
              </a:r>
              <a:endParaRPr b="0" lang="en-US" sz="20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138040" y="1935360"/>
              <a:ext cx="631800" cy="0"/>
            </a:xfrm>
            <a:prstGeom prst="line">
              <a:avLst/>
            </a:prstGeom>
            <a:ln w="9360">
              <a:solidFill>
                <a:srgbClr val="0073f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60120" y="175248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82e"/>
                  </a:solidFill>
                  <a:latin typeface="Arial"/>
                </a:rPr>
                <a:t>kilometers</a:t>
              </a:r>
              <a:endParaRPr b="0" lang="en-US" sz="20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133360" y="2361960"/>
              <a:ext cx="631800" cy="0"/>
            </a:xfrm>
            <a:prstGeom prst="line">
              <a:avLst/>
            </a:prstGeom>
            <a:ln w="9360">
              <a:solidFill>
                <a:srgbClr val="0073f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30200" y="4419720"/>
            <a:ext cx="8282160" cy="1385640"/>
            <a:chOff x="430200" y="4419720"/>
            <a:chExt cx="8282160" cy="1385640"/>
          </a:xfrm>
        </p:grpSpPr>
        <p:sp>
          <p:nvSpPr>
            <p:cNvPr id="189" name=""/>
            <p:cNvSpPr/>
            <p:nvPr/>
          </p:nvSpPr>
          <p:spPr>
            <a:xfrm>
              <a:off x="430200" y="4979880"/>
              <a:ext cx="828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"/>
                </a:rPr>
                <a:t>The actual distance between China and New Sweden is about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93</a:t>
              </a:r>
              <a:r>
                <a:rPr b="1" lang="en-US" sz="2400" spc="-1" strike="noStrike">
                  <a:solidFill>
                    <a:srgbClr val="333333"/>
                  </a:solidFill>
                  <a:latin typeface="Arial"/>
                </a:rPr>
                <a:t> kilometers.</a:t>
              </a:r>
              <a:endParaRPr b="0" lang="en-US" sz="24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1720" y="4419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eae8e2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28600" y="609480"/>
            <a:ext cx="86868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:  Students will use ratio/proportion to create scale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rawings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7505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urse 1:  Workbook pg. 107/108 #1-9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urse 2:  Workbook pg. 109/110 #1-12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e sure to have your cartoon/picture on the index card tomorrow.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4:16:18Z</dcterms:created>
  <dc:creator>ccps</dc:creator>
  <dc:description/>
  <dc:language>en-US</dc:language>
  <cp:lastModifiedBy>deanne elizabeth mcgrath</cp:lastModifiedBy>
  <dcterms:modified xsi:type="dcterms:W3CDTF">2010-05-05T17:55:25Z</dcterms:modified>
  <cp:revision>7</cp:revision>
  <dc:subject/>
  <dc:title>Unit 13</dc:title>
</cp:coreProperties>
</file>